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89D-69D7-4133-BFE2-C6F4CD98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E23-10AE-4097-98D6-D468F768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870-1189-48CE-80AB-70FCB205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4C4-3213-4160-8F33-53DBADCC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3FF8-FBCF-4C0C-B306-D8C88AB4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7952-CFD0-4BE6-8133-0356D1DC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B20F-BBCF-42B4-9BE7-E96503A7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A860-2A35-486C-8DBE-AF866B91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CFAC-93B7-4D16-A862-4E562F32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DF13-560B-4FBD-AD8A-2E95AB77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6813-5151-4767-865D-E3B4DE3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E22-B6CB-4154-AA75-2A00A218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ABAA-3308-4B2F-ACBC-6B44522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1751-527D-4BAD-A6F0-5ED12A67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17A7-34EF-4942-883F-B6E7FAD5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1F27-3B29-4D95-B63B-461CE1CF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EF01-D896-47A7-A106-30EFC8AB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9D8-9CBB-496E-8FCA-FC72447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B07-6D4D-4ADB-A91E-B00FEA4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46A-85EB-4327-B1DF-565EAB70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39B-B0E4-4BD3-88AF-5F50849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305-9DD0-408F-92CD-29398366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056-43DE-4DDC-8F48-ACA8071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CDC-C5EF-47F7-BB05-73A94C60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C4AB-C4F7-4313-9A9D-E06127680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036-D7FE-4C97-8AE1-14374D936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E 4.0 as a browser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toshi Nakaji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-going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 (double the metrix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Keep it work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Bug fix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ugh Estimate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e time development cos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4 persons X 2 weeks (no buffering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 (bug-fixe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1 or 2 dedicated develope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(To Be Filled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3352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in95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828800"/>
            <a:ext cx="228600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581280"/>
            <a:ext cx="228600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5257800"/>
            <a:ext cx="22860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0200" y="1676520"/>
            <a:ext cx="35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eskto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/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429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Folder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AP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istView/TreeView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oolbar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7672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.0 Brows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8288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5146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3434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0560" y="1676520"/>
            <a:ext cx="34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3623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/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ReBa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556272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ini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Urlm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lin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ctxprx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17220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leaut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17220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8640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weeper 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486400"/>
            <a:ext cx="670572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89548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4876920"/>
            <a:ext cx="22860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shtm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876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ML Vie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5623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 running on Win95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209680"/>
            <a:ext cx="22860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172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52388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explorer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09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Reba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9718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8195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334120"/>
            <a:ext cx="2286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257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Internet Name Space hoo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 Web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638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 Proce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981080"/>
            <a:ext cx="380988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4724280"/>
            <a:ext cx="2286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523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Rebar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362320"/>
            <a:ext cx="228600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2096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01520" y="609120"/>
            <a:ext cx="634212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e-time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-coupling shdocvw from shell32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ke following features work agai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CommandL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ype associations (html, jpg, …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DD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Autom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bChec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thena integr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tu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8:40:59Z</dcterms:created>
  <dc:creator>Satoshi Nakajima</dc:creator>
  <dc:description/>
  <dc:language>en-US</dc:language>
  <cp:lastModifiedBy>Satoshi Nakajima</cp:lastModifiedBy>
  <cp:lastPrinted>1996-12-09T20:07:36Z</cp:lastPrinted>
  <dcterms:modified xsi:type="dcterms:W3CDTF">1996-12-09T22:44:30Z</dcterms:modified>
  <cp:revision>7</cp:revision>
  <dc:subject/>
  <dc:title>IE 4.0 as a browser</dc:title>
</cp:coreProperties>
</file>