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1FA-EB85-46FC-9F23-A2FD3054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288-7F30-429A-8F8B-87C705A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A29-286F-4FB4-8D74-B5B714D6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92C-DAA4-4972-A643-493FD803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F4E8-2438-4C98-AF9E-AA5E72D2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B258-47C2-4564-A215-DDD70F8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E02-1715-4439-AFAB-72115C5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2EC-668E-4B4E-843F-DD6EA16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2AA-3945-46EC-A6C9-66ACAFEC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044-9EE8-48B9-963A-4884ED0B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987-FDE0-4AAC-9320-9296487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4DB-A4A2-450F-B8F6-9B8B74A0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3245-DCA7-43E2-9C76-BE22831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DAA3-EE12-42B5-97C5-18AFD0C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43C-D740-4021-9266-18AC74B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BAC5-FF7A-452F-BD7E-0F9FF2B8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003D-7498-499D-B197-90D203D9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02A-5A8B-4464-AFD2-3A185CB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632-E826-4751-9F61-E2861C7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36F-547F-45E0-AE78-D9C7CCA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DBB-7AA9-4495-9AE5-CE01D5F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35C-5E15-4033-8943-D73C223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2B0-9993-42F0-92B1-69529BF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E04-02D2-40CD-8ED6-A817D0A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2920" y="-533520"/>
            <a:ext cx="2514600" cy="2514600"/>
          </a:xfrm>
          <a:prstGeom prst="diamond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829-D787-45FE-BFC9-657242576AB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8AA-1C17-4759-9DF4-2B48031046E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E 4.0 Shell Architecture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E 4.0 Technology Exchange Me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IE 4.0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5280" y="2743200"/>
            <a:ext cx="32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atoshi Nakaj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248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Nov., 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allows the shell view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rge Men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d Toolbar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some status 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late accel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5943600"/>
            <a:ext cx="620496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OLE’s In-place UI negotia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Def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efault implementation of IShellView on top of IShellFol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4197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87" idx="3"/>
          </p:cNvCxnSpPr>
          <p:nvPr/>
        </p:nvCxnSpPr>
        <p:spPr>
          <a:xfrm flipH="1">
            <a:off x="5562000" y="46861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334120" y="4572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1911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6680" y="518148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410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2"/>
          </p:cNvCxnSpPr>
          <p:nvPr/>
        </p:nvCxnSpPr>
        <p:spPr>
          <a:xfrm flipV="1">
            <a:off x="2704680" y="48762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9092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3434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19200">
            <a:off x="4647960" y="53337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2040" y="6095880"/>
            <a:ext cx="47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CreateShellFolderView(ps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0" idx="3"/>
            <a:endCxn id="187" idx="1"/>
          </p:cNvCxnSpPr>
          <p:nvPr/>
        </p:nvCxnSpPr>
        <p:spPr>
          <a:xfrm flipV="1">
            <a:off x="3962520" y="4685760"/>
            <a:ext cx="13723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xtended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Vs can plug-in their own hierarchical name 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4290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1"/>
            <a:endCxn id="204" idx="3"/>
          </p:cNvCxnSpPr>
          <p:nvPr/>
        </p:nvCxnSpPr>
        <p:spPr>
          <a:xfrm flipH="1">
            <a:off x="4114440" y="36190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3886200" y="3505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9718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038480"/>
            <a:ext cx="21333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1"/>
            <a:endCxn id="208" idx="3"/>
          </p:cNvCxnSpPr>
          <p:nvPr/>
        </p:nvCxnSpPr>
        <p:spPr>
          <a:xfrm flipH="1">
            <a:off x="4952160" y="422892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72428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4572000"/>
            <a:ext cx="2133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H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11" idx="3"/>
          </p:cNvCxnSpPr>
          <p:nvPr/>
        </p:nvCxnSpPr>
        <p:spPr>
          <a:xfrm flipH="1">
            <a:off x="4952160" y="476208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72428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10552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3"/>
          </p:cNvCxnSpPr>
          <p:nvPr/>
        </p:nvCxnSpPr>
        <p:spPr>
          <a:xfrm flipH="1">
            <a:off x="5790960" y="529560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56272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21337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3"/>
          </p:cNvCxnSpPr>
          <p:nvPr/>
        </p:nvCxnSpPr>
        <p:spPr>
          <a:xfrm flipH="1">
            <a:off x="5790960" y="582912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56272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722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ip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220" idx="3"/>
          </p:cNvCxnSpPr>
          <p:nvPr/>
        </p:nvCxnSpPr>
        <p:spPr>
          <a:xfrm flipH="1">
            <a:off x="5790960" y="63622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56272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05520" y="5295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2200" y="6362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79960" y="5829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nternet Explorer 3.0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133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0"/>
            <a:endCxn id="229" idx="2"/>
          </p:cNvCxnSpPr>
          <p:nvPr/>
        </p:nvCxnSpPr>
        <p:spPr>
          <a:xfrm flipV="1">
            <a:off x="2628720" y="2742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514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4" idx="2"/>
          </p:cNvCxnSpPr>
          <p:nvPr/>
        </p:nvCxnSpPr>
        <p:spPr>
          <a:xfrm flipV="1">
            <a:off x="171432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60020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895480"/>
            <a:ext cx="167652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3352680"/>
            <a:ext cx="1371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0"/>
            <a:endCxn id="239" idx="2"/>
          </p:cNvCxnSpPr>
          <p:nvPr/>
        </p:nvCxnSpPr>
        <p:spPr>
          <a:xfrm flipV="1">
            <a:off x="407628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96252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37" idx="2"/>
          </p:cNvCxnSpPr>
          <p:nvPr/>
        </p:nvCxnSpPr>
        <p:spPr>
          <a:xfrm flipV="1">
            <a:off x="4076280" y="45712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962520" y="48769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724280"/>
            <a:ext cx="243864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>
            <a:off x="407628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257800"/>
            <a:ext cx="1905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362320"/>
            <a:ext cx="24386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://ms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49" idx="3"/>
          </p:cNvCxnSpPr>
          <p:nvPr/>
        </p:nvCxnSpPr>
        <p:spPr>
          <a:xfrm flipH="1">
            <a:off x="525708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02920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6680" y="327672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19200">
            <a:off x="4724280" y="3123360"/>
            <a:ext cx="532080" cy="53676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d/Exc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0"/>
            <a:endCxn id="255" idx="2"/>
          </p:cNvCxnSpPr>
          <p:nvPr/>
        </p:nvCxnSpPr>
        <p:spPr>
          <a:xfrm flipV="1">
            <a:off x="643860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32448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ShellBrowser is a mini-Explor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8620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60" idx="0"/>
            <a:endCxn id="258" idx="2"/>
          </p:cNvCxnSpPr>
          <p:nvPr/>
        </p:nvCxnSpPr>
        <p:spPr>
          <a:xfrm flipV="1">
            <a:off x="4000320" y="441900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8862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6483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3" idx="1"/>
            <a:endCxn id="258" idx="3"/>
          </p:cNvCxnSpPr>
          <p:nvPr/>
        </p:nvCxnSpPr>
        <p:spPr>
          <a:xfrm flipH="1">
            <a:off x="5257080" y="41526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627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3657600"/>
            <a:ext cx="23623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ispat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A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Hlink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Target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895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5053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0840" y="32767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281952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dge”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9718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Doc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4" idx="2"/>
          </p:cNvCxnSpPr>
          <p:nvPr/>
        </p:nvCxnSpPr>
        <p:spPr>
          <a:xfrm flipV="1">
            <a:off x="3161880" y="2361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04812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6" idx="0"/>
            <a:endCxn id="277" idx="2"/>
          </p:cNvCxnSpPr>
          <p:nvPr/>
        </p:nvCxnSpPr>
        <p:spPr>
          <a:xfrm flipV="1">
            <a:off x="3161880" y="44953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048120" y="5105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4495680"/>
            <a:ext cx="2819520" cy="2057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erviceProvi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8862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ocObject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8128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286000"/>
            <a:ext cx="27432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rowserOC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312408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0"/>
            <a:endCxn id="286" idx="2"/>
          </p:cNvCxnSpPr>
          <p:nvPr/>
        </p:nvCxnSpPr>
        <p:spPr>
          <a:xfrm flipV="1">
            <a:off x="4533480" y="26665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419720" y="2438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8" idx="0"/>
            <a:endCxn id="289" idx="2"/>
          </p:cNvCxnSpPr>
          <p:nvPr/>
        </p:nvCxnSpPr>
        <p:spPr>
          <a:xfrm flipV="1">
            <a:off x="4533480" y="479988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419720" y="54100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1911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752480"/>
            <a:ext cx="236196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ViewObject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ersistSreamIn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055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6920" y="38862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90360" y="39625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Frame Se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3886200"/>
            <a:ext cx="26672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0"/>
            <a:endCxn id="301" idx="2"/>
          </p:cNvCxnSpPr>
          <p:nvPr/>
        </p:nvCxnSpPr>
        <p:spPr>
          <a:xfrm flipV="1">
            <a:off x="331452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320040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31452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320040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886200"/>
            <a:ext cx="26668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0"/>
            <a:endCxn id="308" idx="2"/>
          </p:cNvCxnSpPr>
          <p:nvPr/>
        </p:nvCxnSpPr>
        <p:spPr>
          <a:xfrm flipV="1">
            <a:off x="613368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01992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10" idx="0"/>
            <a:endCxn id="311" idx="2"/>
          </p:cNvCxnSpPr>
          <p:nvPr/>
        </p:nvCxnSpPr>
        <p:spPr>
          <a:xfrm flipV="1">
            <a:off x="613368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992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7621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V="1">
            <a:off x="4686120" y="11422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572000" y="1295280"/>
            <a:ext cx="228600" cy="163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0"/>
            <a:endCxn id="317" idx="2"/>
          </p:cNvCxnSpPr>
          <p:nvPr/>
        </p:nvCxnSpPr>
        <p:spPr>
          <a:xfrm flipV="1">
            <a:off x="4686120" y="2580840"/>
            <a:ext cx="1080" cy="16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4572000" y="243828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895480"/>
            <a:ext cx="14475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0"/>
            <a:endCxn id="318" idx="2"/>
          </p:cNvCxnSpPr>
          <p:nvPr/>
        </p:nvCxnSpPr>
        <p:spPr>
          <a:xfrm flipV="1">
            <a:off x="331452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20040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2895480"/>
            <a:ext cx="14479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0"/>
            <a:endCxn id="321" idx="2"/>
          </p:cNvCxnSpPr>
          <p:nvPr/>
        </p:nvCxnSpPr>
        <p:spPr>
          <a:xfrm flipV="1">
            <a:off x="613368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601992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62485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6" idx="2"/>
          </p:cNvCxnSpPr>
          <p:nvPr/>
        </p:nvCxnSpPr>
        <p:spPr>
          <a:xfrm flipV="1">
            <a:off x="331452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320040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62485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9" idx="2"/>
          </p:cNvCxnSpPr>
          <p:nvPr/>
        </p:nvCxnSpPr>
        <p:spPr>
          <a:xfrm flipV="1">
            <a:off x="613368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992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43434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2767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Cli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581280"/>
            <a:ext cx="121932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74320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3341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5" idx="2"/>
          </p:cNvCxnSpPr>
          <p:nvPr/>
        </p:nvCxnSpPr>
        <p:spPr>
          <a:xfrm flipV="1">
            <a:off x="331452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320040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7" idx="0"/>
            <a:endCxn id="333" idx="2"/>
          </p:cNvCxnSpPr>
          <p:nvPr/>
        </p:nvCxnSpPr>
        <p:spPr>
          <a:xfrm flipV="1">
            <a:off x="331452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20040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3341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40" idx="2"/>
          </p:cNvCxnSpPr>
          <p:nvPr/>
        </p:nvCxnSpPr>
        <p:spPr>
          <a:xfrm flipV="1">
            <a:off x="613368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01992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0"/>
            <a:endCxn id="338" idx="2"/>
          </p:cNvCxnSpPr>
          <p:nvPr/>
        </p:nvCxnSpPr>
        <p:spPr>
          <a:xfrm flipV="1">
            <a:off x="613368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1992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48769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2920" y="51814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2193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5791320"/>
            <a:ext cx="190512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60199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1752480"/>
            <a:ext cx="19047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0"/>
            <a:endCxn id="351" idx="2"/>
          </p:cNvCxnSpPr>
          <p:nvPr/>
        </p:nvCxnSpPr>
        <p:spPr>
          <a:xfrm flipV="1">
            <a:off x="4686120" y="1675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572000" y="15238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0"/>
            <a:endCxn id="349" idx="2"/>
          </p:cNvCxnSpPr>
          <p:nvPr/>
        </p:nvCxnSpPr>
        <p:spPr>
          <a:xfrm flipV="1">
            <a:off x="4686120" y="2133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572000" y="22096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057400"/>
            <a:ext cx="190476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2286000"/>
            <a:ext cx="152388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E 4.0 Explor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E 4.0 Explorer, Folder and Desktop are based on IE 3.0 browser cod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267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8862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6680" y="36576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114800"/>
            <a:ext cx="28195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42670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1814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76920"/>
            <a:ext cx="1522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52680" y="39625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3341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9440" y="42670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53341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Explorer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4952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57040" y="47242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76520" y="5181480"/>
            <a:ext cx="28191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a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Bar is a dockable browser, which can be docked on a browser or the desk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52578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7150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C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61722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8" idx="0"/>
            <a:endCxn id="382" idx="2"/>
          </p:cNvCxnSpPr>
          <p:nvPr/>
        </p:nvCxnSpPr>
        <p:spPr>
          <a:xfrm flipV="1">
            <a:off x="3085920" y="487656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572000"/>
            <a:ext cx="22860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0"/>
            <a:endCxn id="384" idx="2"/>
          </p:cNvCxnSpPr>
          <p:nvPr/>
        </p:nvCxnSpPr>
        <p:spPr>
          <a:xfrm flipV="1">
            <a:off x="3085920" y="3885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97180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038480"/>
            <a:ext cx="2514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3526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657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7880" y="32004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38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37339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cope of this present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vered in this pres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owser, Shell Explorer, WebBar, Asynchronos Navigation, UI negoti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cover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View, Automation Model, Desktop N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Layout Negoti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ffective Client Area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24040" y="2352600"/>
            <a:ext cx="5905440" cy="40291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4114800"/>
            <a:ext cx="56386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ive Client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EffectiveClie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internet toolba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78040" y="2413080"/>
            <a:ext cx="5803920" cy="698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2590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toolbar takes this bord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TBS::GetBorderS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24040" y="3127320"/>
            <a:ext cx="5905440" cy="325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05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scope pane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3403440"/>
            <a:ext cx="153648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8769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cope pane takes the border space from left and to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3162240"/>
            <a:ext cx="5816520" cy="203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895120" y="3276720"/>
            <a:ext cx="76212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400560" y="3305160"/>
            <a:ext cx="4228920" cy="3076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4343400"/>
            <a:ext cx="3962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InPlaceUIWindow::GetBorde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3340080"/>
            <a:ext cx="4165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l’s formular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Windo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00560" y="3508200"/>
            <a:ext cx="4228920" cy="287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343400"/>
            <a:ext cx="38862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Windo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DocumentView::SetRect will be called with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0"/>
            <a:endCxn id="431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2"/>
            <a:endCxn id="431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06812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8360" y="5029200"/>
            <a:ext cx="604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IHlinkFrame::Navigate cal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reate a new Wedge (Wedge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Create URL moniker and call BindTo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remains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0"/>
            <a:endCxn id="438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8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08440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676520"/>
            <a:ext cx="533520" cy="533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84800" y="2819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5620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6" idx="2"/>
          </p:cNvCxnSpPr>
          <p:nvPr/>
        </p:nvCxnSpPr>
        <p:spPr>
          <a:xfrm flipV="1">
            <a:off x="518436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07060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27800" y="3886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36" idx="2"/>
            <a:endCxn id="446" idx="1"/>
          </p:cNvCxnSpPr>
          <p:nvPr/>
        </p:nvCxnSpPr>
        <p:spPr>
          <a:xfrm>
            <a:off x="404172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9" idx="2"/>
            <a:endCxn id="432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2" idx="2"/>
            <a:endCxn id="450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429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5" idx="0"/>
            <a:endCxn id="457" idx="2"/>
          </p:cNvCxnSpPr>
          <p:nvPr/>
        </p:nvCxnSpPr>
        <p:spPr>
          <a:xfrm flipV="1">
            <a:off x="186660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17524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4" idx="2"/>
            <a:endCxn id="457" idx="0"/>
          </p:cNvCxnSpPr>
          <p:nvPr/>
        </p:nvCxnSpPr>
        <p:spPr>
          <a:xfrm>
            <a:off x="186660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915840" y="259092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8160" y="5029200"/>
            <a:ext cx="6232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Moniker sends a HTTP request to the 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Server respon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Moniker create another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still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3200" y="33526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4" idx="2"/>
          </p:cNvCxnSpPr>
          <p:nvPr/>
        </p:nvCxnSpPr>
        <p:spPr>
          <a:xfrm flipV="1">
            <a:off x="396504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8512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4" idx="1"/>
          </p:cNvCxnSpPr>
          <p:nvPr/>
        </p:nvCxnSpPr>
        <p:spPr>
          <a:xfrm>
            <a:off x="293688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084400" y="266688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724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2004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98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0"/>
            <a:endCxn id="471" idx="2"/>
          </p:cNvCxnSpPr>
          <p:nvPr/>
        </p:nvCxnSpPr>
        <p:spPr>
          <a:xfrm flipV="1">
            <a:off x="510804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49942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396252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2" idx="2"/>
            <a:endCxn id="471" idx="1"/>
          </p:cNvCxnSpPr>
          <p:nvPr/>
        </p:nvCxnSpPr>
        <p:spPr>
          <a:xfrm>
            <a:off x="396540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5" idx="2"/>
            <a:endCxn id="458" idx="0"/>
          </p:cNvCxnSpPr>
          <p:nvPr/>
        </p:nvCxnSpPr>
        <p:spPr>
          <a:xfrm>
            <a:off x="186660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914400" y="48769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8" idx="2"/>
            <a:endCxn id="475" idx="0"/>
          </p:cNvCxnSpPr>
          <p:nvPr/>
        </p:nvCxnSpPr>
        <p:spPr>
          <a:xfrm>
            <a:off x="186660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>
            <a:off x="6324480" y="46483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32412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743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2"/>
            <a:endCxn id="480" idx="0"/>
          </p:cNvCxnSpPr>
          <p:nvPr/>
        </p:nvCxnSpPr>
        <p:spPr>
          <a:xfrm>
            <a:off x="7276680" y="2971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2" name=""/>
          <p:cNvSpPr/>
          <p:nvPr/>
        </p:nvSpPr>
        <p:spPr>
          <a:xfrm rot="21537600">
            <a:off x="5638680" y="3505320"/>
            <a:ext cx="532080" cy="53640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0"/>
            <a:endCxn id="488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5" idx="2"/>
            <a:endCxn id="488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9921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84680" y="5029200"/>
            <a:ext cx="5886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Moniker calls Wedge’s OnObjectAvai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Wedge2 gets the pointer to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Wedge2 notifies it to the 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il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0"/>
            <a:endCxn id="495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endCxn id="495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16036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8098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2" idx="2"/>
          </p:cNvCxnSpPr>
          <p:nvPr/>
        </p:nvCxnSpPr>
        <p:spPr>
          <a:xfrm flipV="1">
            <a:off x="438120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2670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3" idx="2"/>
            <a:endCxn id="502" idx="1"/>
          </p:cNvCxnSpPr>
          <p:nvPr/>
        </p:nvCxnSpPr>
        <p:spPr>
          <a:xfrm>
            <a:off x="4041720" y="3809520"/>
            <a:ext cx="22608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86" idx="2"/>
            <a:endCxn id="489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489" idx="2"/>
            <a:endCxn id="505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6477120" y="3886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419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>
            <a:off x="6590880" y="4114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10" name=""/>
          <p:cNvCxnSpPr>
            <a:stCxn id="493" idx="3"/>
            <a:endCxn id="507" idx="1"/>
          </p:cNvCxnSpPr>
          <p:nvPr/>
        </p:nvCxnSpPr>
        <p:spPr>
          <a:xfrm>
            <a:off x="4993920" y="3580920"/>
            <a:ext cx="1483560" cy="420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800600" y="2743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34304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164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0"/>
            <a:endCxn id="513" idx="0"/>
          </p:cNvCxnSpPr>
          <p:nvPr/>
        </p:nvCxnSpPr>
        <p:spPr>
          <a:xfrm flipV="1">
            <a:off x="449568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5" name=""/>
          <p:cNvSpPr/>
          <p:nvPr/>
        </p:nvSpPr>
        <p:spPr>
          <a:xfrm flipH="1" flipV="1">
            <a:off x="4647960" y="3809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876560" y="3962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5" idx="0"/>
            <a:endCxn id="516" idx="0"/>
          </p:cNvCxnSpPr>
          <p:nvPr/>
        </p:nvCxnSpPr>
        <p:spPr>
          <a:xfrm flipV="1">
            <a:off x="4800600" y="3961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98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2" idx="2"/>
          </p:cNvCxnSpPr>
          <p:nvPr/>
        </p:nvCxnSpPr>
        <p:spPr>
          <a:xfrm flipV="1">
            <a:off x="1485720" y="358056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371600" y="3352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724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12760" y="5029200"/>
            <a:ext cx="5833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Deactivate and release the current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Activate the Wedge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. UIActivate HTMLView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5" idx="0"/>
            <a:endCxn id="527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7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5923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438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3581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0" idx="2"/>
            <a:endCxn id="523" idx="0"/>
          </p:cNvCxnSpPr>
          <p:nvPr/>
        </p:nvCxnSpPr>
        <p:spPr>
          <a:xfrm>
            <a:off x="1485720" y="4267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533520" y="52578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3" idx="2"/>
            <a:endCxn id="533" idx="0"/>
          </p:cNvCxnSpPr>
          <p:nvPr/>
        </p:nvCxnSpPr>
        <p:spPr>
          <a:xfrm>
            <a:off x="1485720" y="49525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48769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4572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5" idx="2"/>
            <a:endCxn id="536" idx="0"/>
          </p:cNvCxnSpPr>
          <p:nvPr/>
        </p:nvCxnSpPr>
        <p:spPr>
          <a:xfrm>
            <a:off x="4990680" y="42667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5" idx="2"/>
            <a:endCxn id="535" idx="1"/>
          </p:cNvCxnSpPr>
          <p:nvPr/>
        </p:nvCxnSpPr>
        <p:spPr>
          <a:xfrm>
            <a:off x="4041720" y="3809520"/>
            <a:ext cx="83592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1295280" y="27432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419076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41936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0"/>
            <a:endCxn id="542" idx="0"/>
          </p:cNvCxnSpPr>
          <p:nvPr/>
        </p:nvCxnSpPr>
        <p:spPr>
          <a:xfrm flipV="1">
            <a:off x="434340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 flipH="1" flipV="1">
            <a:off x="5181480" y="39625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4100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4" idx="0"/>
            <a:endCxn id="545" idx="0"/>
          </p:cNvCxnSpPr>
          <p:nvPr/>
        </p:nvCxnSpPr>
        <p:spPr>
          <a:xfrm flipV="1">
            <a:off x="5333760" y="411408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1828800" y="2819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30481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0"/>
            <a:endCxn id="548" idx="0"/>
          </p:cNvCxnSpPr>
          <p:nvPr/>
        </p:nvCxnSpPr>
        <p:spPr>
          <a:xfrm flipV="1">
            <a:off x="1828440" y="3047400"/>
            <a:ext cx="2278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09480" y="3352680"/>
            <a:ext cx="190512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33160" y="3352680"/>
            <a:ext cx="1904760" cy="2819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ohserv/users/sato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t\private\shell\docs (\\trango\slmad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SHIP IT!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Robus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Bug fi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rowser Evolu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Win95 Explorer works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l Namespace, IShellFolder, pidl, IShellView, IShell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3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4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dvanced topics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yout negoti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asynchronous navigation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Name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erarchical name space, which the user can browse with the Shell Explor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I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ems in the shell name space -- drives, files, directories, servers, shares, MyComputer, ControlPanel, ControlPanel items, Printer Folder, Print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1905120"/>
            <a:ext cx="21333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ell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1"/>
            <a:endCxn id="109" idx="3"/>
          </p:cNvCxnSpPr>
          <p:nvPr/>
        </p:nvCxnSpPr>
        <p:spPr>
          <a:xfrm flipH="1">
            <a:off x="4723920" y="232380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495680" y="2209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048120"/>
            <a:ext cx="76960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Folder allows you t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umerate items in it (returns pid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se display name (name to pid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display name (pidl to na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d to an i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UI objects (menu, drop target, …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hat is a “pidl”? 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7524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dentifier of an item in the shell name space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971800"/>
            <a:ext cx="7617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971800"/>
            <a:ext cx="22100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aque b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9760" y="2895480"/>
            <a:ext cx="174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ITEM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9120" y="3505320"/>
            <a:ext cx="9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D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5812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6680" y="4343400"/>
            <a:ext cx="480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idl to “C:\tmp\foo.htm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952880"/>
            <a:ext cx="16765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6098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9528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952880"/>
            <a:ext cx="12189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o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791320"/>
            <a:ext cx="618984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ember that pidls are opaqu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inding to 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4400" y="335268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429000"/>
            <a:ext cx="16765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76920"/>
            <a:ext cx="6098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7692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87692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2133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1"/>
            <a:endCxn id="147" idx="3"/>
          </p:cNvCxnSpPr>
          <p:nvPr/>
        </p:nvCxnSpPr>
        <p:spPr>
          <a:xfrm flipH="1">
            <a:off x="2437920" y="293328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2209680" y="2819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36232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10819800">
            <a:off x="1749960" y="4038120"/>
            <a:ext cx="533520" cy="5367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191120"/>
            <a:ext cx="21337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2" idx="3"/>
          </p:cNvCxnSpPr>
          <p:nvPr/>
        </p:nvCxnSpPr>
        <p:spPr>
          <a:xfrm flipH="1">
            <a:off x="3047400" y="44575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1952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862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480060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21337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1"/>
            <a:endCxn id="157" idx="3"/>
          </p:cNvCxnSpPr>
          <p:nvPr/>
        </p:nvCxnSpPr>
        <p:spPr>
          <a:xfrm flipH="1">
            <a:off x="3656880" y="598140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429000" y="5867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410080"/>
            <a:ext cx="152388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9440" y="1828800"/>
            <a:ext cx="34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GetDesktop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19800">
            <a:off x="2361600" y="5562720"/>
            <a:ext cx="533160" cy="5364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 / IShell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3623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6" idx="3"/>
          </p:cNvCxnSpPr>
          <p:nvPr/>
        </p:nvCxnSpPr>
        <p:spPr>
          <a:xfrm flipH="1">
            <a:off x="579060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6272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8960" y="342900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71" idx="0"/>
            <a:endCxn id="169" idx="2"/>
          </p:cNvCxnSpPr>
          <p:nvPr/>
        </p:nvCxnSpPr>
        <p:spPr>
          <a:xfrm flipV="1">
            <a:off x="3085920" y="27428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971800" y="3200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25146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view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0"/>
            <a:endCxn id="174" idx="2"/>
          </p:cNvCxnSpPr>
          <p:nvPr/>
        </p:nvCxnSpPr>
        <p:spPr>
          <a:xfrm flipV="1">
            <a:off x="30859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971800" y="3962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16765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1148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9200">
            <a:off x="4876560" y="3580560"/>
            <a:ext cx="531720" cy="53676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8T00:46:50Z</dcterms:created>
  <dc:creator>Satoshi Nakajima</dc:creator>
  <dc:description/>
  <dc:language>en-US</dc:language>
  <cp:lastModifiedBy>Chris Guzak</cp:lastModifiedBy>
  <cp:lastPrinted>1996-11-08T18:59:09Z</cp:lastPrinted>
  <dcterms:modified xsi:type="dcterms:W3CDTF">1997-07-10T18:17:05Z</dcterms:modified>
  <cp:revision>28</cp:revision>
  <dc:subject/>
  <dc:title>IE 4.0 Shell Architecture</dc:title>
</cp:coreProperties>
</file>