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ust 16,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keting impact of Dec 1 R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pping early is GOOD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, some tradeoff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ISV support in December timefr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release causes January avail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lore December Internet availability (Microsoft Company S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re sales tools only, with less field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wer trophy accounts at la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ember PR tough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sks in the Dec 1 RT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resource applied to Admin/Setup/Client are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pened a req to offset th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95 and NT dev maintenance (DHCP, WinSock, utili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f SUR beta on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ODBC test mileage and non-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“split” could be painf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reme Tradeoffs to Improve Confidence in 12/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7621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SS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HTTP/ODBC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DNS Ad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ISV Developers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one day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ing 15-20 server app vendors Sept 1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er k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has SDK tools for B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ed into BackOffice SD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uded MSDN Level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ISV Server 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523880"/>
            <a:ext cx="7772400" cy="448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/BackOffice Overview (6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braltar Disclosure (3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BGI Extensions, w/ example (60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3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architecture/opportun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great NT server apps (6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Sock Gems (3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T (3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SN Meta Services (30 m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n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Benchmarking Method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304920" y="21337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Task For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yleG, DougH, MuraliK, SamPa will drive the follow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ustry Benchmark(s)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n to work with NSTL at minimum to get an acceptable industry benchmark established fo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Benchmark(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ly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for internal development and optimizations in key are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requent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sed as a measure to checkpoint what we believe the Industry Benchmarks will port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Benchmarks (Weekly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ekly runs of mixes in the following ar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d files (mix of 5-6 different filesizes based on catapult log and site analys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 performance in m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rocessor performanc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86-bas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ed use (lowest priorit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Benchmarks (Infrequ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esting mix of server characteristics which are run infrequently (mainly demonstrate OS limitations, expected to be covered in Industry Benchmark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CGI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BGI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agem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n-cached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1 constrained m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d against: NetScape/NT, NetScape/BSDI, NCSA 1.4/BSDI, Process 1.1/NT, O’Reilly/NT, Netr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68580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 Distribution (O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445000" y="6611760"/>
            <a:ext cx="369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ttp://www.nw.com/zone/WWW/www-server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79440" y="1660680"/>
            <a:ext cx="8412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 Distribution (Produc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5445000" y="6611760"/>
            <a:ext cx="3697200" cy="2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ource: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ttp://www.nw.com/zone/WWW/www-servers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46240" y="838080"/>
            <a:ext cx="8820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/Beta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ship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G Event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and Benchmarking Method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ent Internet Statistics on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6320" y="76320"/>
            <a:ext cx="9066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information for Bi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143000"/>
            <a:ext cx="777240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thfinder (Time/Warn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illion hit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Sun Servers with T3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ybo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4 million hit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known hard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 Commerce 1.1 on BSDI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T1 lines moving to a T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H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+ million hits per day (all text, does not include graphic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veral SGI Indy servers and Pentium servers running Unix supported by Net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er software, HTTP Server, database, and search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 connection @ Net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30492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information for Bi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tWi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-30K hits per day (200,000 membe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I hardware (unknown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HTTP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foSe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illion queries per 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stom HTTP server and query engine on Sun Sol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3 and T1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figuration Info on Big S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aris/NCSA 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y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A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 Commun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CSA 1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nt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 Commer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m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ve Malcolm added to product marke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yle Geiger added to program management:  will initially focus on performance, ODBC issues, and planning for future ODBC rele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new development req for setup/admin l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1066680"/>
            <a:ext cx="7772400" cy="510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chedule to ship next week (1 week la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grated Publishing and Access Setup/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testing rel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 audience 150 US, 2 master kits per Su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 marketing b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rg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nown good NT te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ing Internet Sites (infoseek, bh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 Provi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V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 reports v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Compuserve foru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.microsoft.com web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support - 1+ PSS engineers, 1 repo engin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ality Omitted for B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/ODBC for non-In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3.x+NetWare only client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 Fil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NS Adm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D5 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censing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: SS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PI provider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complete this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 complete nex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Server integration, 2 weeks de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 out administration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.509 certificate issues need to be work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en “challenged” twice rec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, Reliability, SS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ll in Publishing Edition RTM to 12/1/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D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op minor features (MGET, HTTP 1.1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SSL to Publishing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p Access Edition RTM to 4/1/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e DNS into NTS/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Plan Sched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shing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1: Aug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e complete: Sept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2: Oct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pcord Date: Nov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: Nov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M: De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1: Aug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2: Oct 16 (bug fixes on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a 3: Jan 31 (full functional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C: Mar 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M: Apr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15800" y="601560"/>
            <a:ext cx="1044720" cy="1150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02400" y="601560"/>
            <a:ext cx="104472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685800" y="60948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Tradeoffs Required to make  Dec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ime to spend on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act on Catapult schedule (2/15-&gt;4/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Win95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o-discovery of serv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o-creation of client or administration shares on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remote instal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mited Beta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j. allard</cp:lastModifiedBy>
  <cp:revision>0</cp:revision>
  <dc:subject/>
  <dc:title>Internet Server Review</dc:title>
</cp:coreProperties>
</file>