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2E54B27-FFDD-43AE-87E4-8BD3448B40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05455A91-7B80-49AA-BADB-278BC4407945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 on 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1636560" y="460440"/>
            <a:ext cx="613404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16 bit non-PM API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16bit OS2 1.X , non-PM (VIO) apps, inside a character wind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can run: WORD5.5, Paradox, Rbase, PWB,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103400" y="460440"/>
            <a:ext cx="7947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PM in a separate screen group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562040" y="1514520"/>
            <a:ext cx="6095880" cy="41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'Frame for PM applications' - not a system of it's own - no separate PM file manager, print manager, control panel etc. Support 16bit and 32bit clean PM bin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Clipboard, DDE between PM apps and Windows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 that can run: PM-WORD, PM-EXCEL, 123G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1636560" y="460440"/>
            <a:ext cx="66279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PM/WIN share the g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486080" y="1895400"/>
            <a:ext cx="6095880" cy="24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and Windows app sharing the glass and communicating with each other. Clean PM apps unmodified (binar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 supported (in addition to general restrictions): N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865160" y="460440"/>
            <a:ext cx="5405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t 1: Work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066680" y="1587600"/>
            <a:ext cx="8128080" cy="332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rgely code complete. See sched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 to be d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LS+DBCS, map on Uni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LM support (NetBios, Mailslot, NetAP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inter mapping to Win/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ss 100% of the relevant os/2 1.21 component te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2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914400" y="1434960"/>
            <a:ext cx="7442280" cy="66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igh level design is do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ed Win32 GDI/USER and NT kernel hoo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PM "takeover" by hotkey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 role-over of development staff April 199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dify 16b PM code to be "cleaner" (CLI, IOP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hooks with WIN32 for clean stwit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te private base API to support loading o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b P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Configuration APIs (os2sys.ini, os2.in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with Spooler, Sh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865160" y="460440"/>
            <a:ext cx="51642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 3: Work Summar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1143000" y="1739880"/>
            <a:ext cx="7647120" cy="457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us: not star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sign and implement hooks to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WIN on top of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mplement PM frame windows as WIN32 window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DE, Clipboard, metafile trans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upport from Win/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SER /INPUT hooks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ognize PM-flav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, pass input to PM for tho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sk manager to include PM ap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l Statement of Goa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low corporate customers developing OS/2 and PM applications to run those applications under WIN32/NT, in the same screen group as native WIN32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so by only placing 'reasonable' restrictions on both 16 and 32 bit applica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pplications that satisfy restrictions will run binary on X86 platform. Recompile 32 bit apps for RIS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1941480" y="536400"/>
            <a:ext cx="65721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trictions on OS2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714680" y="174312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mixed 16/32 bi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irect HW manipul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Port private device driv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ring 2 code -&gt; no IOPL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No access to physical video buffer.          VIO apps run inside a character window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86 on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1560600" y="231840"/>
            <a:ext cx="50418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/NT Block Dia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71680" y="3876840"/>
            <a:ext cx="4800600" cy="11430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71680" y="1438200"/>
            <a:ext cx="1905120" cy="1676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43040" y="1577880"/>
            <a:ext cx="1081080" cy="16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2933640" y="2352600"/>
            <a:ext cx="18288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3105000" y="2340000"/>
            <a:ext cx="16146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Cli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857680" y="1209600"/>
            <a:ext cx="281952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29040" y="1425600"/>
            <a:ext cx="2357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71680" y="3571920"/>
            <a:ext cx="5790960" cy="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-70200" bIns="-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0640" y="3952800"/>
            <a:ext cx="1600200" cy="3049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886040" y="3863880"/>
            <a:ext cx="942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 P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333440" y="3952800"/>
            <a:ext cx="2667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133344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000680" y="319104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381560" y="31910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000680" y="1971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19640" y="1971720"/>
            <a:ext cx="0" cy="1600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391000" y="3787920"/>
            <a:ext cx="1704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5391000" y="2797200"/>
            <a:ext cx="144792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114640" y="4473720"/>
            <a:ext cx="18716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 Execu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76240" y="319104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66960" y="265752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381560" y="2657520"/>
            <a:ext cx="685800" cy="12952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476600" y="2949480"/>
            <a:ext cx="4618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476600" y="3406680"/>
            <a:ext cx="4478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67360" y="6010200"/>
            <a:ext cx="175248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543640" y="630252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010120" y="62262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59140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576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686480" y="21240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162240" y="40291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219640" y="3876840"/>
            <a:ext cx="1219320" cy="914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2571840" y="1044720"/>
            <a:ext cx="27957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plit screen grou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1560600" y="460440"/>
            <a:ext cx="54990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/OS2 Server Proc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8160" y="1438200"/>
            <a:ext cx="9677520" cy="5791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00280" y="1590840"/>
            <a:ext cx="419112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2581200"/>
            <a:ext cx="2209680" cy="12193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419200" y="3025800"/>
            <a:ext cx="12193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W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52760" y="4486320"/>
            <a:ext cx="2286000" cy="10666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04840" y="4486320"/>
            <a:ext cx="1143000" cy="9907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76240" y="6010200"/>
            <a:ext cx="2286000" cy="83808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352520" y="4778280"/>
            <a:ext cx="647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029040" y="4778280"/>
            <a:ext cx="123840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G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971640" y="6302520"/>
            <a:ext cx="15429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81560" y="3267000"/>
            <a:ext cx="685800" cy="9144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476600" y="3330720"/>
            <a:ext cx="461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753160" y="2657520"/>
            <a:ext cx="2819520" cy="15238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695760" y="5934240"/>
            <a:ext cx="3124080" cy="106668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267760" y="6010200"/>
            <a:ext cx="144792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34040" y="4714920"/>
            <a:ext cx="1600200" cy="99072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972480" y="6010200"/>
            <a:ext cx="1143000" cy="914400"/>
          </a:xfrm>
          <a:prstGeom prst="round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686640" y="3102120"/>
            <a:ext cx="9190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381720" y="5083200"/>
            <a:ext cx="122076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248000" y="6226200"/>
            <a:ext cx="68112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5010120" y="6226200"/>
            <a:ext cx="98748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 D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067520" y="6302520"/>
            <a:ext cx="10526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8515440" y="6302520"/>
            <a:ext cx="9050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952560" y="2124000"/>
            <a:ext cx="0" cy="3886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9760" y="2124000"/>
            <a:ext cx="0" cy="2286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428840" y="2111400"/>
            <a:ext cx="104760" cy="4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1657440" y="1654200"/>
            <a:ext cx="134316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48240" y="1590840"/>
            <a:ext cx="4114800" cy="4572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458040" y="1654200"/>
            <a:ext cx="1805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32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85768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6480" y="2124000"/>
            <a:ext cx="0" cy="11430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924360" y="5629320"/>
            <a:ext cx="0" cy="533520"/>
          </a:xfrm>
          <a:prstGeom prst="line">
            <a:avLst/>
          </a:prstGeom>
          <a:ln w="1015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324160" y="50958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905440" y="3800520"/>
            <a:ext cx="0" cy="21337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143680" y="4029120"/>
            <a:ext cx="1295280" cy="76212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676840" y="2124000"/>
            <a:ext cx="0" cy="381024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124760" y="2124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9105840" y="2048040"/>
            <a:ext cx="0" cy="396216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734240" y="5553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886880" y="425772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362640" y="562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2571840" y="968400"/>
            <a:ext cx="284796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ame  screen grou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152960" y="2886120"/>
            <a:ext cx="2133720" cy="0"/>
          </a:xfrm>
          <a:prstGeom prst="line">
            <a:avLst/>
          </a:prstGeom>
          <a:ln w="1015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-95760" bIns="-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390840" y="387684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22160" y="536400"/>
            <a:ext cx="856440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's/Con's of Split vs. Same Screen Grou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1676520" y="1673280"/>
            <a:ext cx="7439040" cy="20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Scree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ess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ill looks like Windows from user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Can't see them all at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2170080" y="460440"/>
            <a:ext cx="538632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 16/32 Client Proces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87624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20024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2396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76240" y="3343320"/>
            <a:ext cx="213372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624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895320" y="3406680"/>
            <a:ext cx="1819440" cy="41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unk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971640" y="4854600"/>
            <a:ext cx="26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client D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790640" y="258120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0640" y="42577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915080" y="1819440"/>
            <a:ext cx="2057400" cy="68580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238720" y="1806480"/>
            <a:ext cx="14144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bit 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762440" y="1666800"/>
            <a:ext cx="3048120" cy="39625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15080" y="4714920"/>
            <a:ext cx="2743200" cy="762120"/>
          </a:xfrm>
          <a:prstGeom prst="rect">
            <a:avLst/>
          </a:prstGeom>
          <a:noFill/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5010120" y="4854600"/>
            <a:ext cx="262404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2/32  client 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29480" y="2581200"/>
            <a:ext cx="0" cy="205740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952560" y="2200320"/>
            <a:ext cx="6477120" cy="299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dd 16 bit Base APIs                                 8 (1.X,  VIO applications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 Add PM support                                         5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6 and 32 PM apps i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 separate screen gro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 Share the glass                                        10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ame screen group, DDE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2170080" y="460440"/>
            <a:ext cx="568656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ing POW/NT in Pha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504800" y="1577880"/>
            <a:ext cx="8668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6076800" y="1577880"/>
            <a:ext cx="268128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rox effort (M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