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839325" cy="72961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489DDA2-4365-4107-9768-A8ACD1E12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awing shadowed boxes with PowerPoint is easy.  Simply use the Rectangle tool to draw the box and then choose Shadowed from the Draw men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601"/>
              </a:spcAft>
              <a:buNone/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 sure to delete this word processing box before using this template for your own present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8552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9280" y="17071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9176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8552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479280" y="3917520"/>
            <a:ext cx="285084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91760" y="290880"/>
            <a:ext cx="8854560" cy="564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28840" y="39175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176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28840" y="1707120"/>
            <a:ext cx="432072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1760" y="3917520"/>
            <a:ext cx="8854560" cy="20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95360" y="1438200"/>
            <a:ext cx="8839080" cy="5238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723960" y="6737400"/>
            <a:ext cx="1773360" cy="6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8782200" y="6737400"/>
            <a:ext cx="336600" cy="3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fld id="{90635B2B-425E-4489-8E2E-A50520291422}" type="slidenum"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95360" y="295200"/>
            <a:ext cx="8839080" cy="9907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1760" y="290880"/>
            <a:ext cx="8854560" cy="12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1760" y="1707120"/>
            <a:ext cx="8854560" cy="423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09760" y="1438200"/>
            <a:ext cx="304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95360" y="600120"/>
            <a:ext cx="8839080" cy="60768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862520" y="968400"/>
            <a:ext cx="104760" cy="59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247840" y="2124000"/>
            <a:ext cx="5257800" cy="153504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S/2 on Windows/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6160" y="5629320"/>
            <a:ext cx="2057400" cy="4572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915240" y="5616720"/>
            <a:ext cx="1976400" cy="83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aron Sham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ist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486080" y="1895400"/>
            <a:ext cx="6095880" cy="46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ve a place next-door to Intel Haifa. Lease for 1 year with extension option. Got a local project mgr to refit the space for out nee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Intel on a low-cost high-speed network solution for S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orking with MIS and intenational F&amp;A on legal, accouting, HR issues. Will use Intel as our mod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 to 'open the doors' for SDEs in Haifa October 199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486080" y="1514520"/>
            <a:ext cx="6095880" cy="53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. Must: Run OS/2 1.X Server applications* binary compatible on NT Product 1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SQ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il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Macintosh server (investigate AFP stac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Other server apps: Comm (investigate DLC support), Notes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Sa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* Potentially modify install progr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486080" y="1895400"/>
            <a:ext cx="6095880" cy="336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. Goal: Run server apps' utility programs binary compatib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Install program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Config/Maintenace front-ends a-la LM admin U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486080" y="1895400"/>
            <a:ext cx="6095880" cy="263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 Try: Full non-PM OS2  1.X functionality (All of VIO/KBD/MOU/MON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is will allow apps like Word 5.5, Rbase, PWB to run binary compat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Y '92 Objectives (con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86080" y="1895400"/>
            <a:ext cx="6095880" cy="39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tailed design for P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Design point as described in earlier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- Write a detailed internal specification and prototype split screen groups. As PM requirements get clearer, adjust manpower to build produ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2171520" y="460440"/>
            <a:ext cx="3718080" cy="18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 of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86080" y="1895400"/>
            <a:ext cx="609588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rted implementation April 1991. Designed and impemented APIs, thunk layer, loader and kernel support to a level that allows us to fully build our SW self hosted (OS2 1.X compiler, linker etc. work  binary compatible on OS2/NT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~130 APIs implemented. ~10 left to complete SQL server li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roup included LarryS and YaronS. AviN joined this wee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lestones for Product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486080" y="1895400"/>
            <a:ext cx="6095880" cy="374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un SQL server Q3 1991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ec Kernel support neded for product 1 by July 15th. Discuss with  Davec to mutually commi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grate OS2 into NT console  by Oct 15 (currently using kdb COM1 for U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 complete Dec 1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System Test Jan 31s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2171520" y="460440"/>
            <a:ext cx="3718080" cy="12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Plan for FY'9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486080" y="1895400"/>
            <a:ext cx="6095880" cy="40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tal Head Count - 10 SDE + 1 adm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2 server apps support - 5 (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/2 VIO support - 3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M design and prototype - 2 (0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plit by Loc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9 at Haifa, 1 at Redmond. Plan for integration trip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2171520" y="460440"/>
            <a:ext cx="3718080" cy="6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ffing  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486080" y="1895400"/>
            <a:ext cx="6095880" cy="45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cruiting trip June 20. Have 9 SDEs we like and three admins. Will offer to: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Beni Lavi; D12, currently with Intel Haifa. Did their Wizard i860 kernel.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Eli Grushko; D11/12, currently with Ready Systems. Designed and implemented Vertex/Sparc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- Michael Jarus; D12, HW/SW lead for PC to IBM terminal emulation, DOS/X86 experie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ZapfDingbats"/>
                <a:ea typeface="ZapfDingbats"/>
              </a:rPr>
              <a:t>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xt growth (h.c. max 10) Decemb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