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457200" y="6400800"/>
            <a:ext cx="822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icrosoft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fidential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fld id="{03B5758E-21A4-4939-9CC4-D95A9BCC374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685800"/>
            <a:ext cx="906768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839880" y="320184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Internet Re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525680" y="4524480"/>
            <a:ext cx="640080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ril 3, 1995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41240"/>
            <a:ext cx="2459160" cy="12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085840" y="1068480"/>
            <a:ext cx="7040520" cy="4118040"/>
          </a:xfrm>
          <a:prstGeom prst="roundRect">
            <a:avLst/>
          </a:prstGeom>
          <a:gradFill rotWithShape="0">
            <a:gsLst>
              <a:gs pos="0">
                <a:srgbClr val="6a779a"/>
              </a:gs>
              <a:gs pos="50000">
                <a:srgbClr val="081d58"/>
              </a:gs>
              <a:gs pos="100000">
                <a:srgbClr val="6a779a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7056360" y="2046240"/>
            <a:ext cx="1409760" cy="5684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294600" y="2062080"/>
            <a:ext cx="0" cy="4968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549680" y="2038320"/>
            <a:ext cx="601920" cy="434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299440" y="3227400"/>
            <a:ext cx="39600" cy="2214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H="1" flipV="1">
            <a:off x="6365880" y="3214800"/>
            <a:ext cx="1874880" cy="2219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84720" y="3171960"/>
            <a:ext cx="2924280" cy="22366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5167440" y="5076720"/>
            <a:ext cx="347400" cy="82872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3959280" y="5076720"/>
            <a:ext cx="190440" cy="48888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13000" y="3068640"/>
            <a:ext cx="64620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13000" y="2625840"/>
            <a:ext cx="655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533600" y="2087640"/>
            <a:ext cx="693720" cy="1238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773440" y="2284560"/>
            <a:ext cx="0" cy="1267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4016520" y="5076720"/>
            <a:ext cx="1035000" cy="4730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360" y="5573880"/>
            <a:ext cx="1724040" cy="316080"/>
          </a:xfrm>
          <a:prstGeom prst="roundRect">
            <a:avLst/>
          </a:prstGeom>
          <a:solidFill>
            <a:srgbClr val="00279f"/>
          </a:solidFill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604280" y="5376960"/>
            <a:ext cx="1357200" cy="7034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9920" y="1177920"/>
            <a:ext cx="3338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73800" y="1346040"/>
            <a:ext cx="1336680" cy="6094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3160" y="141444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17600" y="189396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95640" y="28576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98520" y="241128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556160" y="3753000"/>
            <a:ext cx="0" cy="233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11360" y="3930480"/>
            <a:ext cx="2378160" cy="81612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Publishing Server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86440" y="147780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52920" y="1490760"/>
            <a:ext cx="11764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124160" y="1440000"/>
            <a:ext cx="24512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445080" y="1363680"/>
            <a:ext cx="1036800" cy="60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 Op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705800" y="5465880"/>
            <a:ext cx="12286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7678800" y="4433760"/>
            <a:ext cx="6015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3762360" y="4370400"/>
            <a:ext cx="17035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dows Socke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60840" y="3147840"/>
            <a:ext cx="0" cy="2955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75000" y="2900520"/>
            <a:ext cx="5684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95520" y="2444760"/>
            <a:ext cx="5572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78000" y="1938240"/>
            <a:ext cx="123984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 G/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743120"/>
            <a:ext cx="1638360" cy="990720"/>
          </a:xfrm>
          <a:prstGeom prst="ellipse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40" y="1995480"/>
            <a:ext cx="1301760" cy="47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Server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, Oracle.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414520" y="1147680"/>
            <a:ext cx="11872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Ser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5721480" y="2470320"/>
            <a:ext cx="1360440" cy="744480"/>
            <a:chOff x="5721480" y="2470320"/>
            <a:chExt cx="1360440" cy="744480"/>
          </a:xfrm>
        </p:grpSpPr>
        <p:sp>
          <p:nvSpPr>
            <p:cNvPr id="99" name=""/>
            <p:cNvSpPr/>
            <p:nvPr/>
          </p:nvSpPr>
          <p:spPr>
            <a:xfrm>
              <a:off x="572148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 txBox="1"/>
            <p:nvPr/>
          </p:nvSpPr>
          <p:spPr>
            <a:xfrm>
              <a:off x="5783400" y="2593800"/>
              <a:ext cx="127620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Goph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7612200" y="2470320"/>
            <a:ext cx="1360440" cy="744480"/>
            <a:chOff x="7612200" y="2470320"/>
            <a:chExt cx="1360440" cy="744480"/>
          </a:xfrm>
        </p:grpSpPr>
        <p:sp>
          <p:nvSpPr>
            <p:cNvPr id="102" name=""/>
            <p:cNvSpPr/>
            <p:nvPr/>
          </p:nvSpPr>
          <p:spPr>
            <a:xfrm>
              <a:off x="7612200" y="247032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7878600" y="2593800"/>
              <a:ext cx="87948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F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862440" y="2463840"/>
            <a:ext cx="1360440" cy="744480"/>
            <a:chOff x="3862440" y="2463840"/>
            <a:chExt cx="1360440" cy="744480"/>
          </a:xfrm>
        </p:grpSpPr>
        <p:sp>
          <p:nvSpPr>
            <p:cNvPr id="105" name=""/>
            <p:cNvSpPr/>
            <p:nvPr/>
          </p:nvSpPr>
          <p:spPr>
            <a:xfrm>
              <a:off x="3862440" y="2463840"/>
              <a:ext cx="1360440" cy="74448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3921120" y="2565360"/>
              <a:ext cx="12193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HTT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9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Serv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992400" y="3409920"/>
            <a:ext cx="1128600" cy="36828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181400" y="3452760"/>
            <a:ext cx="74772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954600" y="4022640"/>
            <a:ext cx="1324080" cy="295200"/>
            <a:chOff x="3954600" y="4022640"/>
            <a:chExt cx="1324080" cy="295200"/>
          </a:xfrm>
        </p:grpSpPr>
        <p:sp>
          <p:nvSpPr>
            <p:cNvPr id="110" name=""/>
            <p:cNvSpPr/>
            <p:nvPr/>
          </p:nvSpPr>
          <p:spPr>
            <a:xfrm>
              <a:off x="3956040" y="4022640"/>
              <a:ext cx="1204920" cy="29520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 txBox="1"/>
            <p:nvPr/>
          </p:nvSpPr>
          <p:spPr>
            <a:xfrm>
              <a:off x="3954600" y="4032360"/>
              <a:ext cx="1324080" cy="28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14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TransmitFil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4737240" y="480384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759200" y="4827600"/>
            <a:ext cx="76680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CP/I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54440" y="4797360"/>
            <a:ext cx="811080" cy="29520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719520" y="4821120"/>
            <a:ext cx="876240" cy="2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X/SPX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97360" y="591012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73320" y="5524560"/>
            <a:ext cx="903240" cy="33984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67200" y="5572080"/>
            <a:ext cx="87480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335320" y="594216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13360" y="5905440"/>
            <a:ext cx="1044720" cy="50004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59240" y="5929200"/>
            <a:ext cx="2379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306440" y="5748480"/>
            <a:ext cx="441360" cy="1440"/>
          </a:xfrm>
          <a:prstGeom prst="line">
            <a:avLst/>
          </a:prstGeom>
          <a:ln w="12600">
            <a:solidFill>
              <a:srgbClr val="ffffff"/>
            </a:solidFill>
            <a:custDash>
              <a:ds d="202857" sp="2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49680" bIns="-49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1680" y="5627520"/>
            <a:ext cx="124632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stem bound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547640" y="1851120"/>
            <a:ext cx="6238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B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2751120" y="3232080"/>
            <a:ext cx="0" cy="127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946160" y="3359160"/>
            <a:ext cx="1623960" cy="42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tch, Perl, etc.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90000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rip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4876920" y="4411800"/>
            <a:ext cx="0" cy="50148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741920"/>
            <a:ext cx="2987640" cy="912960"/>
          </a:xfrm>
          <a:prstGeom prst="roundRect">
            <a:avLst/>
          </a:prstGeom>
          <a:gradFill rotWithShape="0">
            <a:gsLst>
              <a:gs pos="0">
                <a:srgbClr val="500093"/>
              </a:gs>
              <a:gs pos="50000">
                <a:srgbClr val="18002c"/>
              </a:gs>
              <a:gs pos="100000">
                <a:srgbClr val="50009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pplication Gateway Archite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7440" y="4884840"/>
            <a:ext cx="232236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0" y="4148280"/>
            <a:ext cx="71748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7397640" y="3365640"/>
            <a:ext cx="1652760" cy="25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2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Organization Networ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43880" y="968400"/>
            <a:ext cx="2379600" cy="789120"/>
            <a:chOff x="6743880" y="968400"/>
            <a:chExt cx="2379600" cy="789120"/>
          </a:xfrm>
        </p:grpSpPr>
        <p:sp>
          <p:nvSpPr>
            <p:cNvPr id="134" name=""/>
            <p:cNvSpPr/>
            <p:nvPr/>
          </p:nvSpPr>
          <p:spPr>
            <a:xfrm>
              <a:off x="7008840" y="968400"/>
              <a:ext cx="1800360" cy="789120"/>
            </a:xfrm>
            <a:prstGeom prst="roundRect">
              <a:avLst/>
            </a:prstGeom>
            <a:gradFill rotWithShape="0">
              <a:gsLst>
                <a:gs pos="0">
                  <a:srgbClr val="fafd00"/>
                </a:gs>
                <a:gs pos="50000">
                  <a:srgbClr val="4b4b00"/>
                </a:gs>
                <a:gs pos="100000">
                  <a:srgbClr val="fafd00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 txBox="1"/>
            <p:nvPr/>
          </p:nvSpPr>
          <p:spPr>
            <a:xfrm>
              <a:off x="6743880" y="1014480"/>
              <a:ext cx="2379600" cy="70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Clien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552600" indent="-552600" algn="ctr"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7035840" y="1797120"/>
            <a:ext cx="1722600" cy="563400"/>
            <a:chOff x="7035840" y="1797120"/>
            <a:chExt cx="1722600" cy="563400"/>
          </a:xfrm>
        </p:grpSpPr>
        <p:sp>
          <p:nvSpPr>
            <p:cNvPr id="137" name=""/>
            <p:cNvSpPr/>
            <p:nvPr/>
          </p:nvSpPr>
          <p:spPr>
            <a:xfrm>
              <a:off x="7035840" y="179712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 txBox="1"/>
            <p:nvPr/>
          </p:nvSpPr>
          <p:spPr>
            <a:xfrm>
              <a:off x="7264440" y="189396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569960" y="1913040"/>
            <a:ext cx="4100400" cy="1965240"/>
          </a:xfrm>
          <a:prstGeom prst="roundRect">
            <a:avLst/>
          </a:prstGeom>
          <a:gradFill rotWithShape="0">
            <a:gsLst>
              <a:gs pos="0">
                <a:srgbClr val="1f4300"/>
              </a:gs>
              <a:gs pos="100000">
                <a:srgbClr val="4b6833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711520" y="2238480"/>
            <a:ext cx="171936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844640" y="3056040"/>
            <a:ext cx="1722600" cy="563400"/>
            <a:chOff x="1844640" y="3056040"/>
            <a:chExt cx="1722600" cy="563400"/>
          </a:xfrm>
        </p:grpSpPr>
        <p:sp>
          <p:nvSpPr>
            <p:cNvPr id="142" name=""/>
            <p:cNvSpPr/>
            <p:nvPr/>
          </p:nvSpPr>
          <p:spPr>
            <a:xfrm>
              <a:off x="1844640" y="3056040"/>
              <a:ext cx="1722600" cy="563400"/>
            </a:xfrm>
            <a:prstGeom prst="roundRect">
              <a:avLst/>
            </a:prstGeom>
            <a:gradFill rotWithShape="0">
              <a:gsLst>
                <a:gs pos="0">
                  <a:srgbClr val="4b000c"/>
                </a:gs>
                <a:gs pos="100000">
                  <a:srgbClr val="fc0128"/>
                </a:gs>
              </a:gsLst>
              <a:lin ang="27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2073240" y="3152880"/>
              <a:ext cx="133524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marL="552600" indent="-552600">
                <a:lnSpc>
                  <a:spcPct val="90000"/>
                </a:lnSpc>
                <a:spcBef>
                  <a:spcPts val="720"/>
                </a:spcBef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wininet.dl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3733920" y="304308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b760f9"/>
              </a:gs>
              <a:gs pos="50000">
                <a:srgbClr val="361c4a"/>
              </a:gs>
              <a:gs pos="100000">
                <a:srgbClr val="b760f9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917880" y="3125880"/>
            <a:ext cx="14889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PC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840" y="4397400"/>
            <a:ext cx="5775480" cy="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78480" y="3306600"/>
            <a:ext cx="3537000" cy="1296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51120" bIns="-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38760" y="5405400"/>
            <a:ext cx="1800360" cy="789120"/>
          </a:xfrm>
          <a:prstGeom prst="roundRect">
            <a:avLst/>
          </a:prstGeom>
          <a:gradFill rotWithShape="0">
            <a:gsLst>
              <a:gs pos="0">
                <a:srgbClr val="fafd00"/>
              </a:gs>
              <a:gs pos="50000">
                <a:srgbClr val="4b4b00"/>
              </a:gs>
              <a:gs pos="100000">
                <a:srgbClr val="fafd0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664080" y="5484960"/>
            <a:ext cx="2379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002120" y="4795920"/>
            <a:ext cx="1722600" cy="563400"/>
          </a:xfrm>
          <a:prstGeom prst="roundRect">
            <a:avLst/>
          </a:prstGeom>
          <a:gradFill rotWithShape="0">
            <a:gsLst>
              <a:gs pos="0">
                <a:srgbClr val="4b000c"/>
              </a:gs>
              <a:gs pos="100000">
                <a:srgbClr val="fc0128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230720" y="4892760"/>
            <a:ext cx="13352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ninet.d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47920" y="4397400"/>
            <a:ext cx="0" cy="32400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73440" y="3619440"/>
            <a:ext cx="0" cy="777960"/>
          </a:xfrm>
          <a:prstGeom prst="line">
            <a:avLst/>
          </a:prstGeom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32600" y="2360520"/>
            <a:ext cx="0" cy="919080"/>
          </a:xfrm>
          <a:prstGeom prst="line">
            <a:avLst/>
          </a:prstGeom>
          <a:ln w="38160">
            <a:solidFill>
              <a:srgbClr val="fafd00"/>
            </a:solidFill>
            <a:custDash>
              <a:ds d="133019" sp="133019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1200" y="4079880"/>
            <a:ext cx="83988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CP/I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896080" y="2917800"/>
            <a:ext cx="200196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Arial"/>
                <a:ea typeface="Arial"/>
              </a:rPr>
              <a:t>Any RPC trans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46040" y="1301760"/>
            <a:ext cx="8159760" cy="367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 Code complete, performance tuning underw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: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: 85% code compl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: basic functionality stable, cleanup underway, admin hooks TB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: Alpha SDK released to ~100 TechEd attendees and tier 1 ISV’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208320" y="508788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velopment 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92280" y="1409760"/>
            <a:ext cx="7515360" cy="342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: Basic APIs code complete for all protocols.  Lots of tuning and minor features before campus pilo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: Development begins 4/1 based on Spyglass sour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: FTP, Gopher, Web configuration code complete.  Setup, DNS, Catapult begin this mon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208320" y="4879800"/>
            <a:ext cx="574992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85640" y="-115920"/>
            <a:ext cx="817236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Test Status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907920" y="906480"/>
            <a:ext cx="7162920" cy="519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unctiona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API test suite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test suite 75%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and Benchmark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mpetitive performance numbers (ye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res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, FTP stress tests ong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, DNS stress tests 90% comp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hino.microsoft.com running MS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85640" y="-361800"/>
            <a:ext cx="8172360" cy="157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Bug Summary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523880" y="1878120"/>
            <a:ext cx="6078600" cy="40528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990720" y="1600200"/>
            <a:ext cx="7162920" cy="457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ly 54 ACTIVE B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 Server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NS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DLL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/Setup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Dem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06480" y="1311120"/>
            <a:ext cx="7162920" cy="424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opher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r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/SQL integ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aid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lution Provider 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 too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tapul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Issu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97040" y="1581120"/>
            <a:ext cx="7635960" cy="24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ck of SMORG mail/news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develop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esently developing catapult client in BSD since POSD bailed o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ffing for Gibraltar ‘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847800" y="1787400"/>
            <a:ext cx="74674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on with Cairo distributed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S, BackOffice Admin (increased managabilit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S (content index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routing and simple packet filte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Internet Protoc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security (S-HTTP, SSL or both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IS query standard (Z39.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ther emerging standards as appropri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‘97 Release Feat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04760" y="1438200"/>
            <a:ext cx="9016920" cy="47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-server syner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O’hare client to support Microsoft standards on the Internet (OLE, Office formats, DCOM, STT/eCommerce, ..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 BackOffice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SQL and Exchange integration to the next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ice/DAD integ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ccess support for Web query/report building, better InternetAssistant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Cairo scripting to drive Office solutions from  server (e.g., complex Excel model or pivot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6541920" y="719280"/>
            <a:ext cx="2097000" cy="31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(Under conside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Team (Lead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838080" y="1828800"/>
            <a:ext cx="7620120" cy="387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velopment: DavidTr, ThomasP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st: Pete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 Mgt: Doug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 Mgt: Kerry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Ed: JeffH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SS: GregAl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ompetitive 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90600" y="1481040"/>
            <a:ext cx="6481800" cy="31291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6872400" y="1479600"/>
            <a:ext cx="1882800" cy="31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i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63640" y="2900520"/>
            <a:ext cx="7315200" cy="140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icrosoft Internet Server provides high-performance  information access and information publishing for organizations in an easy to use Internet produ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Release Features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131760" y="1371600"/>
            <a:ext cx="873756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 algn="ctr">
              <a:lnSpc>
                <a:spcPct val="90000"/>
              </a:lnSpc>
              <a:spcBef>
                <a:spcPts val="720"/>
              </a:spcBef>
              <a:spcAft>
                <a:spcPts val="720"/>
              </a:spcAft>
            </a:pPr>
            <a:r>
              <a:rPr b="1" i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sign Points: Performance, manageability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SQL (ODBC) integration with We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, Gopher, Web access from the deskto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efits: Security, Caching, Transport Independence, Policy control (per-us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minist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mote administration of all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formance Monitor, SNMP and logging (SQL, filesystem or EventLo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browser bund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fW, NT, Win95 support (based on Spyglass source bas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Omitted By Desig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19040" y="1265400"/>
            <a:ext cx="8305920" cy="46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lone Internet Mail/New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TP/POP3 and News included in 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cintosh client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Assistant team investigating 3rd par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ent Index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chitecture does permit 3rd parties to add-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cket filtering (e.g., traditional IP “firewall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hanced Web Security (SSL, S-HTT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net application gateway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QL Query/Report author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Compet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5680" y="1009800"/>
            <a:ext cx="8534520" cy="50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ditional competi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tus:  InterNotes News, InterNotes Publis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acle:  Oracl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BM: DB2WWW, AIX Gatew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vell: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moured to have publishing and application gateway under development, has licensed NetScape as a stop-gap solution until Fe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b publish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tScape:  NetSite Serv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rd Party NT-based Web Products: O’Reilly, Process, Amerite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-in-one Internet server pack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n:  Netra Interne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O:  SCO Glob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BN:  Internet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30200" y="1206360"/>
            <a:ext cx="8224920" cy="427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du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en issues: product name, small business mail/ne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a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- BSD Tier 1 langu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7156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lish, German, French, Japanese (servers Unicode, admin tools DBCS for Win95 compatibilit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ient - O’hare to all Win95 languages except Catalan and Basq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s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positioning statement under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77760" y="1066680"/>
            <a:ext cx="716292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urrent thinking - not approv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995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$30-50 catapult clien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lient access fee for FTP, Gopher, WWW internal or external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ce (channe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ndard BSD 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r relationships (AT&amp;T, MC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mo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1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Demonstrate NT Server as </a:t>
            </a:r>
            <a:r>
              <a:rPr b="1" i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he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nternet plat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Initiative 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Internet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Gibraltar Market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130320"/>
            <a:ext cx="8172360" cy="5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afd00"/>
                </a:solidFill>
                <a:latin typeface="Arial"/>
                <a:ea typeface="Arial"/>
              </a:rPr>
              <a:t>Architecture Investm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1760" y="1131840"/>
            <a:ext cx="8921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ransmitFile(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kernel support transmits a file directly from cache to a network socket stream. Huge performance gain (in NT 3.5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xtensions for Win3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Is permit 3rd parties/corp developers to build Internet access applications, compatible with Catapult application gatewa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GI: Binary Gatewa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t in-process interface for realtime Web extensions to Internet server for VARs/ISVs (ODBC gateway will use this in 1.0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ill gates</dc:creator>
  <dc:description/>
  <dc:language>en-US</dc:language>
  <cp:lastModifiedBy>peteo</cp:lastModifiedBy>
  <cp:revision>0</cp:revision>
  <dc:subject/>
  <dc:title>BSD Internet Review</dc:title>
</cp:coreProperties>
</file>