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144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1394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4909680"/>
            <a:ext cx="198720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64680"/>
            <a:ext cx="6171840" cy="707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49096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9480"/>
            <a:ext cx="301176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4909680"/>
            <a:ext cx="6171840" cy="252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4680"/>
            <a:ext cx="6171840" cy="15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81040" y="743040"/>
            <a:ext cx="4010040" cy="714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/>
          <p:nvPr/>
        </p:nvSpPr>
        <p:spPr>
          <a:xfrm>
            <a:off x="552600" y="6162840"/>
            <a:ext cx="1952640" cy="438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555480" y="744480"/>
            <a:ext cx="4003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taPt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690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hared data seg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cbArray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669d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 dimensional array of NCB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cbBuffer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68b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 dimensional array of NCB Buff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pncbistate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368b8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essage transfer state fla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450720" y="477720"/>
            <a:ext cx="26478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hese examples are with 2 active network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14440" y="2438280"/>
            <a:ext cx="5838840" cy="2486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07960" y="2013120"/>
            <a:ext cx="20224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hared Data Seg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523800" y="2428920"/>
            <a:ext cx="2971800" cy="161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NUMNET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38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NAMEFLAG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38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NAMENUM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18+16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58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DNAM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18+2(16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489480" y="2639880"/>
            <a:ext cx="2924280" cy="222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  28  00  02  02  02  02  ..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 1 flags (1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0  28  00  02  02  .....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 2 flags (1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2  02  04  00  ..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 1 nums (1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02  02  00  02  ...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 2 nums (1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NL2............[03][00]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7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NL2............[03][00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NL3............[03][00]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 16 of these for each n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next Net is found at SDNUMNETS + 17(16n)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098960" y="1725480"/>
            <a:ext cx="187164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chine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achineName (Broadca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m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m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4191120" y="1886040"/>
            <a:ext cx="852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743280" y="1886040"/>
            <a:ext cx="447840" cy="8236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967200" y="2052720"/>
            <a:ext cx="339840" cy="6476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4176720" y="2214720"/>
            <a:ext cx="255600" cy="500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4390920" y="2371680"/>
            <a:ext cx="176400" cy="347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09920" y="2057400"/>
            <a:ext cx="15433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438800" y="2219400"/>
            <a:ext cx="5569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62640" y="2371680"/>
            <a:ext cx="552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43280" y="2705040"/>
            <a:ext cx="0" cy="709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67200" y="270504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962440"/>
            <a:ext cx="5810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176720" y="271476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390920" y="2714760"/>
            <a:ext cx="0" cy="714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8200" y="3424320"/>
            <a:ext cx="58100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440" y="2647800"/>
            <a:ext cx="58388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1040" y="6162840"/>
            <a:ext cx="2019240" cy="43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cbArray  =   pNCB1    pNCB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(3669d8)  (366dd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409760" y="5981760"/>
            <a:ext cx="9907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Net 0       Net 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590840" y="6610320"/>
            <a:ext cx="0" cy="3240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90840" y="6934320"/>
            <a:ext cx="15048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3133800" y="6829560"/>
            <a:ext cx="1886040" cy="2200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md [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tcode [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ocal session number [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name num [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uffer [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8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ength [2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A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allname [1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1A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name [16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A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to [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B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sto [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2C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ost routine address [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0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lana num [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1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cmd cplt [1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2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serve[10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3C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event [4]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2858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4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(next NCB - one for each nam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048120" y="6640560"/>
            <a:ext cx="173340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offset      element name and siz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384200" y="108000"/>
            <a:ext cx="38606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T Messenger Service Data Structure Ma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746520" y="4948200"/>
            <a:ext cx="2762280" cy="119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914400"/>
                <a:tab algn="l" pos="1257480"/>
              </a:tabLst>
            </a:pP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ame Flag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914400"/>
                <a:tab algn="l" pos="1257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NFNEW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x0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New  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914400"/>
                <a:tab algn="l" pos="1257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NFDEL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x0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Name Dele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914400"/>
                <a:tab algn="l" pos="1257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NFFOR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x04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essages Forward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914400"/>
                <a:tab algn="l" pos="1257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NFBCAST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x0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Broadcast recv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914400"/>
                <a:tab algn="l" pos="1257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NFFWD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x1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Forward-n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914400"/>
                <a:tab algn="l" pos="1257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NFMACHNAM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x2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Machine name (undeletab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914400"/>
                <a:tab algn="l" pos="1257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NFLOCK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x4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Name entry lock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914400"/>
                <a:tab algn="l" pos="125748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NFDEL_PENDIN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0x80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Delete name not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326880" y="2973240"/>
            <a:ext cx="5900760" cy="557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:003&gt; db 1698e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8e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91 ff 01 02 f8 a4 16 00-c8 00 2a 20 20 20 20 20  ..........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8fc  20 20 20 20 20 20 20 20-20 20 44 41 4e 4c 31 20            DANL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90c  20 20 20 20 20 20 20 20-20 03 3c 28 00 00 00 00           .&lt;(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91c  02 ff 00 00 00 00 00 00-00 00 00 00 48 00 00 00  ............H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92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a3 ff 00 02 c0 a5 16 00-c8 00 00 00 00 00 00 00  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93c  00 00 00 00 00 00 00 00-00 00 44 41 4e 4c 31 20  ..........DANL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94c  20 20 20 20 20 20 20 20-20 03 00 00 00 00 00 00           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95c  02 ff 00 00 00 00 00 00-00 00 00 00 48 00 00 00  ............H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:003&gt; d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96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95 00 16 04 88 a6 16 00-36 00 44 41 4e 4c 32 20  ........6.DANL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97c  54 45 53 54 20 20 20 20-20 01 44 41 4e 4c 35 20  TEST     .DANL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98c  54 45 53 54 20 20 20 20-20 03 3c 28 00 00 00 00  TEST     .&lt;(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99c  02 00 00 00 00 00 00 00-31 00 00 00 48 00 00 00  ........1...H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9ac  00 00 00 00 00 00 00 00-00 00 00 00 00 00 00 00  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9bc  00 00 00 00 00 00 00 00-00 00 00 00 00 00 00 00  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9cc  00 00 00 00 00 00 00 00-00 00 00 00 00 00 00 00  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9dc  00 ff 00 00 00 00 00 00-00 00 00 00 00 00 00 00  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:003&gt; d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16996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96c  04160095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a688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41440036 20324c4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97c  54534554 20202020 41440120 20354c4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98c  54534554 20202020 283c0320 0000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99c  00000002 00000000 00000031 00000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9ac  00000000 00000000 00000000 0000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9bc  00000000 00000000 00000000 0000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9cc  00000000 00000000 00000000 0000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99dc  0000ff00 00000000 00000000 00000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:003&gt; db 16a6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a688  ff 53 4d 42 d5 00 00 00-00 00 00 00 00 00 00 00  .SMB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a698  00 00 00 00 00 00 00 00-00 00 00 00 00 00 00 00  ..............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a6a8  00 13 00 04 44 41 4e 4c-32 20 54 45 53 54 00 04  ....DANL2 TEST.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a6b8  44 41 4e 4c 35 00 69 74-20 6e 65 65 64 73 20 6c  DANL5.it needs 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a6c8  6f 74 73 20 6f 66 20 63-68 61 72 61 63 74 65 72  ots of 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a6d8  73 2c 20 62 75 74 20 69-74 20 64 6f 65 73 6e 27  s, but it doesn'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a6e8  74 20 68 61 76 65 20 61-6e 79 20 66 6f 72 6d 61  t have any for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0016a6f8  74 74 69 6e 67 20 62 75-74 20 49 20 77 61 6e 74  tting but I w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622440" y="1030320"/>
            <a:ext cx="2428920" cy="1158840"/>
            <a:chOff x="622440" y="1030320"/>
            <a:chExt cx="2428920" cy="1158840"/>
          </a:xfrm>
        </p:grpSpPr>
        <p:sp>
          <p:nvSpPr>
            <p:cNvPr id="72" name=""/>
            <p:cNvSpPr txBox="1"/>
            <p:nvPr/>
          </p:nvSpPr>
          <p:spPr>
            <a:xfrm>
              <a:off x="622440" y="1030320"/>
              <a:ext cx="2428920" cy="1158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1143000"/>
                  <a:tab algn="l" pos="18288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cbArray    1698e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1143000"/>
                  <a:tab algn="l" pos="18288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1143000"/>
                  <a:tab algn="l" pos="18288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1143000"/>
                  <a:tab algn="l" pos="18288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1143000"/>
                  <a:tab algn="l" pos="18288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>
                <a:lnSpc>
                  <a:spcPct val="100000"/>
                </a:lnSpc>
                <a:tabLst>
                  <a:tab algn="l" pos="628560"/>
                  <a:tab algn="l" pos="1314360"/>
                </a:tabLst>
              </a:pP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NET 0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NET1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0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NET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>
                <a:lnSpc>
                  <a:spcPct val="100000"/>
                </a:lnSpc>
                <a:tabLst>
                  <a:tab algn="l" pos="628560"/>
                  <a:tab algn="l" pos="131436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98ec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9cec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a0ec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343160" y="1209600"/>
              <a:ext cx="0" cy="4762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 txBox="1"/>
          <p:nvPr/>
        </p:nvSpPr>
        <p:spPr>
          <a:xfrm>
            <a:off x="345960" y="2527200"/>
            <a:ext cx="4941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Dump The NCBs for Net0.  There are 3 of them at the following addresses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1698ec (machine name),   169920(machine Name Broadcast), and 16996c(Added Name):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952800" y="5900760"/>
            <a:ext cx="2097000" cy="214200"/>
            <a:chOff x="3952800" y="5900760"/>
            <a:chExt cx="2097000" cy="214200"/>
          </a:xfrm>
        </p:grpSpPr>
        <p:sp>
          <p:nvSpPr>
            <p:cNvPr id="76" name=""/>
            <p:cNvSpPr txBox="1"/>
            <p:nvPr/>
          </p:nvSpPr>
          <p:spPr>
            <a:xfrm>
              <a:off x="4460760" y="5900760"/>
              <a:ext cx="15890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dress of data buffer (Bold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3952800" y="6000840"/>
              <a:ext cx="514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3828960" y="7091280"/>
            <a:ext cx="1689120" cy="214200"/>
            <a:chOff x="3828960" y="7091280"/>
            <a:chExt cx="1689120" cy="214200"/>
          </a:xfrm>
        </p:grpSpPr>
        <p:sp>
          <p:nvSpPr>
            <p:cNvPr id="79" name=""/>
            <p:cNvSpPr txBox="1"/>
            <p:nvPr/>
          </p:nvSpPr>
          <p:spPr>
            <a:xfrm>
              <a:off x="4346640" y="7091280"/>
              <a:ext cx="117144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mp of Data Buff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828960" y="7201080"/>
              <a:ext cx="5144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 txBox="1"/>
          <p:nvPr/>
        </p:nvSpPr>
        <p:spPr>
          <a:xfrm>
            <a:off x="2041560" y="469800"/>
            <a:ext cx="2525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From NcbArray to SMB buf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