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0" y="6540480"/>
            <a:ext cx="9131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</a:t>
            </a:r>
            <a:r>
              <a:rPr b="1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dential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fld id="{8BA548F0-0C43-40DD-84E2-F7070ED7A0F8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85800"/>
            <a:ext cx="906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839880" y="320184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Re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525680" y="4524480"/>
            <a:ext cx="640080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ril 25, 199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741240"/>
            <a:ext cx="318276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User Ed Publishing Pla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60480" y="1447920"/>
            <a:ext cx="7162920" cy="469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% HTML (authored w/ Wor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ekly Internet Magazine (onlin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box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 HTML and .mdb for beginners, administrators, and security fol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access to Microsoft-maintained versions of do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d Install Guide &amp; WinHel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d Content as MSPress books or doc SK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Publishing Plan Over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82760" y="2133720"/>
            <a:ext cx="1390680" cy="18478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8440" y="2546280"/>
            <a:ext cx="1879560" cy="10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00279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eekly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ternet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“Ezin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24360" y="1562040"/>
            <a:ext cx="2914560" cy="5335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05280" y="1219320"/>
            <a:ext cx="0" cy="628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00760" y="1257480"/>
            <a:ext cx="0" cy="571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45960" y="1612800"/>
            <a:ext cx="17161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eta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0" y="2705040"/>
            <a:ext cx="4762440" cy="2685960"/>
          </a:xfrm>
          <a:prstGeom prst="rect">
            <a:avLst/>
          </a:prstGeom>
          <a:solidFill>
            <a:srgbClr val="00279f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212920" y="2260440"/>
            <a:ext cx="20210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ibraltar Bo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05640" y="2209680"/>
            <a:ext cx="1143000" cy="16383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334280" y="2057400"/>
            <a:ext cx="1143000" cy="16383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34280" y="3695760"/>
            <a:ext cx="19044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496360" y="3695760"/>
            <a:ext cx="15228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496360" y="2076480"/>
            <a:ext cx="15228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20120" y="4457880"/>
            <a:ext cx="1143000" cy="16383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67480" y="4305240"/>
            <a:ext cx="1143000" cy="16383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448400" y="5943600"/>
            <a:ext cx="19080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610480" y="5943600"/>
            <a:ext cx="15264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610480" y="4324320"/>
            <a:ext cx="15264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498920" y="1041480"/>
            <a:ext cx="173340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QL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7280280" y="1612800"/>
            <a:ext cx="143676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S-Pr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33840" y="2952720"/>
            <a:ext cx="2038320" cy="7048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37080" y="3079800"/>
            <a:ext cx="19699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Web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85960" y="3200400"/>
            <a:ext cx="1143000" cy="16383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33680" y="3048120"/>
            <a:ext cx="1143000" cy="163836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4686480"/>
            <a:ext cx="19044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676680" y="4686480"/>
            <a:ext cx="152280" cy="152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76680" y="3067200"/>
            <a:ext cx="152280" cy="1713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00880" y="4381560"/>
            <a:ext cx="1257480" cy="70488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775480" y="4568760"/>
            <a:ext cx="93996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HTM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019400" y="4305240"/>
            <a:ext cx="1238400" cy="762120"/>
          </a:xfrm>
          <a:prstGeom prst="rect">
            <a:avLst/>
          </a:prstGeom>
          <a:solidFill>
            <a:srgbClr val="081d58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.md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422600" y="1650960"/>
            <a:ext cx="178452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t Microsof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593800" y="3216240"/>
            <a:ext cx="104472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nsta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u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&lt; 100p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356600" y="2149560"/>
            <a:ext cx="102888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dm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ecur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0 p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7489800" y="4435560"/>
            <a:ext cx="107316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egin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ublis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Gu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50 p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905120" y="1809720"/>
            <a:ext cx="1981080" cy="343080"/>
          </a:xfrm>
          <a:prstGeom prst="line">
            <a:avLst/>
          </a:prstGeom>
          <a:ln w="3816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62480" y="2019240"/>
            <a:ext cx="0" cy="2362320"/>
          </a:xfrm>
          <a:prstGeom prst="line">
            <a:avLst/>
          </a:prstGeom>
          <a:ln w="3816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24800" y="1962000"/>
            <a:ext cx="0" cy="2362320"/>
          </a:xfrm>
          <a:prstGeom prst="line">
            <a:avLst/>
          </a:prstGeom>
          <a:ln w="3816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19840" y="1809720"/>
            <a:ext cx="476280" cy="266760"/>
          </a:xfrm>
          <a:prstGeom prst="line">
            <a:avLst/>
          </a:prstGeom>
          <a:ln w="3816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05280" y="952560"/>
            <a:ext cx="2914560" cy="533520"/>
          </a:xfrm>
          <a:prstGeom prst="ellipse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562720" y="2114640"/>
            <a:ext cx="0" cy="838080"/>
          </a:xfrm>
          <a:prstGeom prst="line">
            <a:avLst/>
          </a:prstGeom>
          <a:ln w="38160">
            <a:solidFill>
              <a:srgbClr val="fc012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695760"/>
            <a:ext cx="0" cy="666720"/>
          </a:xfrm>
          <a:prstGeom prst="line">
            <a:avLst/>
          </a:prstGeom>
          <a:ln w="3816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791320" y="3695760"/>
            <a:ext cx="0" cy="628560"/>
          </a:xfrm>
          <a:prstGeom prst="line">
            <a:avLst/>
          </a:prstGeom>
          <a:ln w="38160">
            <a:solidFill>
              <a:srgbClr val="fafd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Architecture Invest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1760" y="1131840"/>
            <a:ext cx="8921880" cy="531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mitFile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kernel support transmits a file directly from cache to a network socket stream. Huge performance gain (in 3.51), patent application under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xtensions for Win3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permit 3rd parties/corp developers to build Internet access applications, compatible with Catapult application gate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GI: Binary Gateway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icient in-process interface for realtime Web extensions to Internet server for VARs/ISVs (ODBC gateway will use this in 1.0), modeled after traditional Unix mechanism for ease-of-por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085840" y="1068480"/>
            <a:ext cx="7040520" cy="4118040"/>
          </a:xfrm>
          <a:prstGeom prst="roundRect">
            <a:avLst/>
          </a:prstGeom>
          <a:gradFill rotWithShape="0">
            <a:gsLst>
              <a:gs pos="0">
                <a:srgbClr val="6a779a"/>
              </a:gs>
              <a:gs pos="50000">
                <a:srgbClr val="081d58"/>
              </a:gs>
              <a:gs pos="100000">
                <a:srgbClr val="6a779a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7056360" y="2046240"/>
            <a:ext cx="1409760" cy="568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294600" y="2062080"/>
            <a:ext cx="0" cy="496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4549680" y="2038320"/>
            <a:ext cx="601920" cy="434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299440" y="3227400"/>
            <a:ext cx="39600" cy="221472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6365880" y="3214800"/>
            <a:ext cx="1874880" cy="22190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5184720" y="3171960"/>
            <a:ext cx="2924280" cy="223668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5167440" y="5076720"/>
            <a:ext cx="347400" cy="82872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959280" y="5076720"/>
            <a:ext cx="190440" cy="48888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13000" y="3068640"/>
            <a:ext cx="646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13000" y="2625840"/>
            <a:ext cx="655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533600" y="2087640"/>
            <a:ext cx="693720" cy="1238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773440" y="2284560"/>
            <a:ext cx="0" cy="12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016520" y="5076720"/>
            <a:ext cx="1035000" cy="4730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0360" y="5573880"/>
            <a:ext cx="1724040" cy="31608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04280" y="5376960"/>
            <a:ext cx="1357200" cy="70344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9920" y="1177920"/>
            <a:ext cx="3338640" cy="91296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373800" y="1346040"/>
            <a:ext cx="1336680" cy="6094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53160" y="141444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17600" y="189396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95640" y="285768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98520" y="241128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56160" y="3753000"/>
            <a:ext cx="0" cy="233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11360" y="3930480"/>
            <a:ext cx="2378160" cy="81612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Publishing Server Archite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86440" y="1477800"/>
            <a:ext cx="11764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52920" y="1490760"/>
            <a:ext cx="11764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124160" y="1440000"/>
            <a:ext cx="24512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Q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445080" y="1363680"/>
            <a:ext cx="103680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Op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7705800" y="5465880"/>
            <a:ext cx="1228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 To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678800" y="4433760"/>
            <a:ext cx="601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762360" y="4370400"/>
            <a:ext cx="17035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60840" y="3147840"/>
            <a:ext cx="0" cy="295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2475000" y="2900520"/>
            <a:ext cx="5684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G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495520" y="2444760"/>
            <a:ext cx="557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G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178000" y="1938240"/>
            <a:ext cx="1239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G/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743120"/>
            <a:ext cx="1638360" cy="990720"/>
          </a:xfrm>
          <a:prstGeom prst="ellipse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90440" y="1995480"/>
            <a:ext cx="1301760" cy="47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, Oracle.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2414520" y="1147680"/>
            <a:ext cx="11872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721480" y="2470320"/>
            <a:ext cx="1360440" cy="744480"/>
            <a:chOff x="5721480" y="2470320"/>
            <a:chExt cx="1360440" cy="744480"/>
          </a:xfrm>
        </p:grpSpPr>
        <p:sp>
          <p:nvSpPr>
            <p:cNvPr id="146" name=""/>
            <p:cNvSpPr/>
            <p:nvPr/>
          </p:nvSpPr>
          <p:spPr>
            <a:xfrm>
              <a:off x="5721480" y="2470320"/>
              <a:ext cx="1360440" cy="74448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50000">
                  <a:srgbClr val="4b4b00"/>
                </a:gs>
                <a:gs pos="100000">
                  <a:srgbClr val="fafd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 txBox="1"/>
            <p:nvPr/>
          </p:nvSpPr>
          <p:spPr>
            <a:xfrm>
              <a:off x="5783400" y="2593800"/>
              <a:ext cx="127620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oph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rv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7612200" y="2470320"/>
            <a:ext cx="1360440" cy="744480"/>
            <a:chOff x="7612200" y="2470320"/>
            <a:chExt cx="1360440" cy="744480"/>
          </a:xfrm>
        </p:grpSpPr>
        <p:sp>
          <p:nvSpPr>
            <p:cNvPr id="149" name=""/>
            <p:cNvSpPr/>
            <p:nvPr/>
          </p:nvSpPr>
          <p:spPr>
            <a:xfrm>
              <a:off x="7612200" y="2470320"/>
              <a:ext cx="1360440" cy="74448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50000">
                  <a:srgbClr val="4b4b00"/>
                </a:gs>
                <a:gs pos="100000">
                  <a:srgbClr val="fafd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 txBox="1"/>
            <p:nvPr/>
          </p:nvSpPr>
          <p:spPr>
            <a:xfrm>
              <a:off x="7878600" y="2593800"/>
              <a:ext cx="87948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rv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3862440" y="2463840"/>
            <a:ext cx="1360440" cy="744480"/>
            <a:chOff x="3862440" y="2463840"/>
            <a:chExt cx="1360440" cy="744480"/>
          </a:xfrm>
        </p:grpSpPr>
        <p:sp>
          <p:nvSpPr>
            <p:cNvPr id="152" name=""/>
            <p:cNvSpPr/>
            <p:nvPr/>
          </p:nvSpPr>
          <p:spPr>
            <a:xfrm>
              <a:off x="3862440" y="2463840"/>
              <a:ext cx="1360440" cy="74448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50000">
                  <a:srgbClr val="4b4b00"/>
                </a:gs>
                <a:gs pos="100000">
                  <a:srgbClr val="fafd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 txBox="1"/>
            <p:nvPr/>
          </p:nvSpPr>
          <p:spPr>
            <a:xfrm>
              <a:off x="3921120" y="2565360"/>
              <a:ext cx="121932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T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rv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992400" y="340992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181400" y="3452760"/>
            <a:ext cx="747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t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954600" y="4022640"/>
            <a:ext cx="1324080" cy="295200"/>
            <a:chOff x="3954600" y="4022640"/>
            <a:chExt cx="1324080" cy="295200"/>
          </a:xfrm>
        </p:grpSpPr>
        <p:sp>
          <p:nvSpPr>
            <p:cNvPr id="157" name=""/>
            <p:cNvSpPr/>
            <p:nvPr/>
          </p:nvSpPr>
          <p:spPr>
            <a:xfrm>
              <a:off x="3956040" y="4022640"/>
              <a:ext cx="1204920" cy="29520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50000">
                  <a:srgbClr val="4b4b00"/>
                </a:gs>
                <a:gs pos="100000">
                  <a:srgbClr val="fafd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 txBox="1"/>
            <p:nvPr/>
          </p:nvSpPr>
          <p:spPr>
            <a:xfrm>
              <a:off x="3954600" y="4032360"/>
              <a:ext cx="1324080" cy="284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ansmitFil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4737240" y="4803840"/>
            <a:ext cx="811080" cy="29520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759200" y="4827600"/>
            <a:ext cx="7668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54440" y="4797360"/>
            <a:ext cx="811080" cy="29520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719520" y="4821120"/>
            <a:ext cx="87624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X/SP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97360" y="5910120"/>
            <a:ext cx="1044720" cy="50004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73320" y="5524560"/>
            <a:ext cx="903240" cy="33984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67200" y="5572080"/>
            <a:ext cx="8748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inet.d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335320" y="5942160"/>
            <a:ext cx="237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13360" y="5905440"/>
            <a:ext cx="1044720" cy="50004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359240" y="5929200"/>
            <a:ext cx="237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1306440" y="5748480"/>
            <a:ext cx="441360" cy="14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1680" y="5627520"/>
            <a:ext cx="124632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bound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547640" y="1851120"/>
            <a:ext cx="6238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751120" y="3232080"/>
            <a:ext cx="0" cy="127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946160" y="3359160"/>
            <a:ext cx="162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ch, Perl, etc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i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5759280" y="2360520"/>
            <a:ext cx="0" cy="919080"/>
          </a:xfrm>
          <a:prstGeom prst="line">
            <a:avLst/>
          </a:prstGeom>
          <a:ln w="38160">
            <a:solidFill>
              <a:srgbClr val="fafd00"/>
            </a:solidFill>
            <a:custDash>
              <a:ds d="133019" sp="1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03680" y="3297240"/>
            <a:ext cx="6211800" cy="22320"/>
          </a:xfrm>
          <a:prstGeom prst="line">
            <a:avLst/>
          </a:prstGeom>
          <a:ln w="38160">
            <a:solidFill>
              <a:srgbClr val="fafd00"/>
            </a:solidFill>
            <a:custDash>
              <a:ds d="133019" sp="1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41760" bIns="-417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876920" y="4411800"/>
            <a:ext cx="0" cy="5014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280" y="4741920"/>
            <a:ext cx="2987640" cy="91296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Application Gateway Archite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87440" y="4884840"/>
            <a:ext cx="2322360" cy="73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, Gopher, Web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0" y="4148280"/>
            <a:ext cx="7174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7397640" y="3365640"/>
            <a:ext cx="16527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rganization Net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6743880" y="968400"/>
            <a:ext cx="2379600" cy="789120"/>
            <a:chOff x="6743880" y="968400"/>
            <a:chExt cx="2379600" cy="789120"/>
          </a:xfrm>
        </p:grpSpPr>
        <p:sp>
          <p:nvSpPr>
            <p:cNvPr id="183" name=""/>
            <p:cNvSpPr/>
            <p:nvPr/>
          </p:nvSpPr>
          <p:spPr>
            <a:xfrm>
              <a:off x="7008840" y="968400"/>
              <a:ext cx="1800360" cy="78912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50000">
                  <a:srgbClr val="4b4b00"/>
                </a:gs>
                <a:gs pos="100000">
                  <a:srgbClr val="fafd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6743880" y="1014480"/>
              <a:ext cx="237960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552600" indent="-552600"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7035840" y="1797120"/>
            <a:ext cx="1722600" cy="563400"/>
            <a:chOff x="7035840" y="1797120"/>
            <a:chExt cx="1722600" cy="563400"/>
          </a:xfrm>
        </p:grpSpPr>
        <p:sp>
          <p:nvSpPr>
            <p:cNvPr id="186" name=""/>
            <p:cNvSpPr/>
            <p:nvPr/>
          </p:nvSpPr>
          <p:spPr>
            <a:xfrm>
              <a:off x="7035840" y="1797120"/>
              <a:ext cx="1722600" cy="563400"/>
            </a:xfrm>
            <a:prstGeom prst="roundRect">
              <a:avLst/>
            </a:prstGeom>
            <a:gradFill rotWithShape="0">
              <a:gsLst>
                <a:gs pos="0">
                  <a:srgbClr val="4b000c"/>
                </a:gs>
                <a:gs pos="100000">
                  <a:srgbClr val="fc0128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7264440" y="1893960"/>
              <a:ext cx="13352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ininet.dl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4920" y="1913040"/>
            <a:ext cx="4100400" cy="1965240"/>
          </a:xfrm>
          <a:prstGeom prst="roundRect">
            <a:avLst/>
          </a:prstGeom>
          <a:gradFill rotWithShape="0">
            <a:gsLst>
              <a:gs pos="0">
                <a:srgbClr val="1f4300"/>
              </a:gs>
              <a:gs pos="100000">
                <a:srgbClr val="4b683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76480" y="2238480"/>
            <a:ext cx="17193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p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09600" y="3056040"/>
            <a:ext cx="1722600" cy="563400"/>
            <a:chOff x="309600" y="3056040"/>
            <a:chExt cx="1722600" cy="563400"/>
          </a:xfrm>
        </p:grpSpPr>
        <p:sp>
          <p:nvSpPr>
            <p:cNvPr id="191" name=""/>
            <p:cNvSpPr/>
            <p:nvPr/>
          </p:nvSpPr>
          <p:spPr>
            <a:xfrm>
              <a:off x="309600" y="3056040"/>
              <a:ext cx="1722600" cy="563400"/>
            </a:xfrm>
            <a:prstGeom prst="roundRect">
              <a:avLst/>
            </a:prstGeom>
            <a:gradFill rotWithShape="0">
              <a:gsLst>
                <a:gs pos="0">
                  <a:srgbClr val="4b000c"/>
                </a:gs>
                <a:gs pos="100000">
                  <a:srgbClr val="fc0128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538200" y="3152880"/>
              <a:ext cx="13352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ininet.dl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2198520" y="3043080"/>
            <a:ext cx="1722600" cy="563400"/>
          </a:xfrm>
          <a:prstGeom prst="roundRect">
            <a:avLst/>
          </a:prstGeom>
          <a:gradFill rotWithShape="0">
            <a:gsLst>
              <a:gs pos="0">
                <a:srgbClr val="b760f9"/>
              </a:gs>
              <a:gs pos="50000">
                <a:srgbClr val="361c4a"/>
              </a:gs>
              <a:gs pos="100000">
                <a:srgbClr val="b760f9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382840" y="3125880"/>
            <a:ext cx="1488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15840" y="4394160"/>
            <a:ext cx="6100920" cy="324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4360" bIns="-54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38760" y="5405400"/>
            <a:ext cx="1800360" cy="78912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664080" y="5484960"/>
            <a:ext cx="2379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002120" y="4795920"/>
            <a:ext cx="1722600" cy="56340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230720" y="4892760"/>
            <a:ext cx="1335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inet.d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447920" y="4397400"/>
            <a:ext cx="0" cy="3240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238400" y="3619440"/>
            <a:ext cx="0" cy="7779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2600" y="2360520"/>
            <a:ext cx="0" cy="919080"/>
          </a:xfrm>
          <a:prstGeom prst="line">
            <a:avLst/>
          </a:prstGeom>
          <a:ln w="38160">
            <a:solidFill>
              <a:srgbClr val="fafd00"/>
            </a:solidFill>
            <a:custDash>
              <a:ds d="133019" sp="1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851200" y="4079880"/>
            <a:ext cx="83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CP/I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896080" y="2917800"/>
            <a:ext cx="2001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Any RPC trans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078520" y="965160"/>
            <a:ext cx="1800360" cy="78912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038560" y="1055520"/>
            <a:ext cx="18795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ERN Proxy Cli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129280" y="2205000"/>
            <a:ext cx="1722600" cy="56340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18280" y="2281320"/>
            <a:ext cx="1335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inet.d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108400" y="1784520"/>
            <a:ext cx="1706400" cy="35388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264280" y="1782720"/>
            <a:ext cx="1327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allPro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Development 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46040" y="1301760"/>
            <a:ext cx="8159760" cy="36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 Code complete, performance tuning under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pher: Code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: 85% code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NS: basic functionality stable, cleanup underway, admin hooks TB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: Alpha SDK released to ~100 TechEd attendees and tier 1 ISV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208320" y="5087880"/>
            <a:ext cx="574992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Development 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92280" y="1409760"/>
            <a:ext cx="7872480" cy="380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pult: Basic APIs code complete for all protocols.  In use within dev team - lots of tuning and minor features before larger campus pilo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: Investing ~8 weeks of cleanup in SpyGlass code (make it un-embarrassing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: FTP, Gopher, Web configuration code complete.  Setup, DNS, Catapult begin this mon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208320" y="5087880"/>
            <a:ext cx="574992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Test Method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990720" y="1600200"/>
            <a:ext cx="7162920" cy="444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32 API Extensions and Cli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ary tool is HAPI, a script driven network testing environ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test dll (wrapper of wininet.dll) with custom keyword and type definitio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al testing scripts for all exposed Internet application protocols (gopher, http, ftp, archie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tests to be run native and through catapult gatewa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lone stress applications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yglass client will undergo much usage testing on WFW (Win32s), Win95, and Windows 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Test Methodolo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990720" y="1600200"/>
            <a:ext cx="7162920" cy="35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shing Serv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al testing driven by client-based test scripts to ensure conform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verage client-based stress applications to ensure robust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operability with existing Internet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nd local administration, setup and configu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85640" y="212760"/>
            <a:ext cx="81723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  <a:ea typeface="Arial"/>
              </a:rPr>
              <a:t>Test Stat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1301760" y="868320"/>
            <a:ext cx="7162920" cy="56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PI test suite (comple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test suite (75% comple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up and Administration (plann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yglass client testing (planning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and Benchma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ompetitive performance numbers (ye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pher, FTP stress tests ongo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, DNS stress tests 90% comp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pult Gateway stress starting so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hino.microsoft.com running MS ser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l roll-out underway in M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Monthly Top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001880" y="1265400"/>
            <a:ext cx="7162920" cy="457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atures, Schedules and Staffing (today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pult, APIs, SmallPr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, Clien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, Benchmar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ublishing Architecture, Gate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ion/Management/Set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petitive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ckOffice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ibraltar ‘97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Schedule 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359320" y="1525680"/>
            <a:ext cx="3162240" cy="264312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tablization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a1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a 2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liday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C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T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wee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0720" y="1343160"/>
            <a:ext cx="3976560" cy="3081240"/>
          </a:xfrm>
          <a:prstGeom prst="rect">
            <a:avLst/>
          </a:prstGeom>
          <a:solidFill>
            <a:srgbClr val="dadada"/>
          </a:solidFill>
          <a:ln w="1260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chedu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TNetDev pilo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/7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TG Pilo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6/15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a 1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/15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a 2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1/1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C1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/1/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T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/15/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209600" y="5075280"/>
            <a:ext cx="719784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Beta1 omitted functionalit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DNS namespace editor, performance work, some browser cleanup, generalized SmallProx, SNMP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Beta2 full functiona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Dem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906480" y="131112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ion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pher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/SQL integration (BGI dem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id example (live SQL Server on \\ntrai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ution Provider (Local Access .MDB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GI Demo (OFS que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pult (using NetScap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Dependenc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49360" y="1133640"/>
            <a:ext cx="8147160" cy="50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change on the hook for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TP/P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/Exchange gate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NTP/Exchange gate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95 client from PS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 extending Catapult for organization access to MS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d ‘95 requires Catapult APIs for Internet Assistant 2.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Open 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776160" y="1133640"/>
            <a:ext cx="7635960" cy="521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king to get Word ‘95/Internet Assistant 2.0 in-the-box (use 32-bit Word6 for non-Int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court third parties for gateway application develop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R is to depend/support third parties for a 1.0 SSL/S-HTTP solution to reduce product complexity and pull in d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good SMORG mail/news story w/ Exchange-only strate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 indexing: can we ship a crippled 3rd party indexer pre-Cair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Backup Slid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040200" y="960480"/>
            <a:ext cx="1197360" cy="441720"/>
          </a:xfrm>
          <a:custGeom>
            <a:avLst/>
            <a:gdLst/>
            <a:ahLst/>
            <a:rect l="0" t="0" r="r" b="b"/>
            <a:pathLst>
              <a:path w="3326" h="1227">
                <a:moveTo>
                  <a:pt x="0" y="409"/>
                </a:moveTo>
                <a:lnTo>
                  <a:pt x="0" y="817"/>
                </a:lnTo>
                <a:lnTo>
                  <a:pt x="2328" y="817"/>
                </a:lnTo>
                <a:lnTo>
                  <a:pt x="2328" y="1227"/>
                </a:lnTo>
                <a:lnTo>
                  <a:pt x="3326" y="613"/>
                </a:lnTo>
                <a:lnTo>
                  <a:pt x="2328" y="0"/>
                </a:lnTo>
                <a:lnTo>
                  <a:pt x="2328" y="409"/>
                </a:lnTo>
                <a:lnTo>
                  <a:pt x="0" y="409"/>
                </a:lnTo>
                <a:close/>
              </a:path>
            </a:pathLst>
          </a:cu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561000" y="1401840"/>
            <a:ext cx="1122840" cy="479880"/>
          </a:xfrm>
          <a:custGeom>
            <a:avLst/>
            <a:gdLst/>
            <a:ahLst/>
            <a:rect l="0" t="0" r="r" b="b"/>
            <a:pathLst>
              <a:path w="3119" h="1333">
                <a:moveTo>
                  <a:pt x="0" y="444"/>
                </a:moveTo>
                <a:lnTo>
                  <a:pt x="0" y="887"/>
                </a:lnTo>
                <a:lnTo>
                  <a:pt x="2183" y="887"/>
                </a:lnTo>
                <a:lnTo>
                  <a:pt x="2183" y="1333"/>
                </a:lnTo>
                <a:lnTo>
                  <a:pt x="3119" y="666"/>
                </a:lnTo>
                <a:lnTo>
                  <a:pt x="2183" y="0"/>
                </a:lnTo>
                <a:lnTo>
                  <a:pt x="2183" y="444"/>
                </a:lnTo>
                <a:lnTo>
                  <a:pt x="0" y="444"/>
                </a:lnTo>
                <a:close/>
              </a:path>
            </a:pathLst>
          </a:cu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612200" y="2705040"/>
            <a:ext cx="381240" cy="541800"/>
          </a:xfrm>
          <a:custGeom>
            <a:avLst/>
            <a:gdLst/>
            <a:ahLst/>
            <a:rect l="0" t="0" r="r" b="b"/>
            <a:pathLst>
              <a:path w="1059" h="1505">
                <a:moveTo>
                  <a:pt x="352" y="0"/>
                </a:moveTo>
                <a:lnTo>
                  <a:pt x="705" y="0"/>
                </a:lnTo>
                <a:lnTo>
                  <a:pt x="705" y="1053"/>
                </a:lnTo>
                <a:lnTo>
                  <a:pt x="1059" y="1053"/>
                </a:lnTo>
                <a:lnTo>
                  <a:pt x="530" y="1505"/>
                </a:lnTo>
                <a:lnTo>
                  <a:pt x="0" y="1053"/>
                </a:lnTo>
                <a:lnTo>
                  <a:pt x="352" y="1053"/>
                </a:lnTo>
                <a:lnTo>
                  <a:pt x="352" y="0"/>
                </a:lnTo>
                <a:close/>
              </a:path>
            </a:pathLst>
          </a:cu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438960" y="5807160"/>
            <a:ext cx="754560" cy="473400"/>
          </a:xfrm>
          <a:custGeom>
            <a:avLst/>
            <a:gdLst/>
            <a:ahLst/>
            <a:rect l="0" t="0" r="r" b="b"/>
            <a:pathLst>
              <a:path w="2096" h="1315">
                <a:moveTo>
                  <a:pt x="2096" y="437"/>
                </a:moveTo>
                <a:lnTo>
                  <a:pt x="2096" y="876"/>
                </a:lnTo>
                <a:lnTo>
                  <a:pt x="629" y="876"/>
                </a:lnTo>
                <a:lnTo>
                  <a:pt x="629" y="1315"/>
                </a:lnTo>
                <a:lnTo>
                  <a:pt x="0" y="658"/>
                </a:lnTo>
                <a:lnTo>
                  <a:pt x="629" y="0"/>
                </a:lnTo>
                <a:lnTo>
                  <a:pt x="629" y="437"/>
                </a:lnTo>
                <a:lnTo>
                  <a:pt x="2096" y="437"/>
                </a:lnTo>
                <a:close/>
              </a:path>
            </a:pathLst>
          </a:cu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686720" y="5297400"/>
            <a:ext cx="557640" cy="381240"/>
          </a:xfrm>
          <a:custGeom>
            <a:avLst/>
            <a:gdLst/>
            <a:ahLst/>
            <a:rect l="0" t="0" r="r" b="b"/>
            <a:pathLst>
              <a:path w="1549" h="1059">
                <a:moveTo>
                  <a:pt x="0" y="352"/>
                </a:moveTo>
                <a:lnTo>
                  <a:pt x="0" y="705"/>
                </a:lnTo>
                <a:lnTo>
                  <a:pt x="1084" y="705"/>
                </a:lnTo>
                <a:lnTo>
                  <a:pt x="1084" y="1059"/>
                </a:lnTo>
                <a:lnTo>
                  <a:pt x="1549" y="530"/>
                </a:lnTo>
                <a:lnTo>
                  <a:pt x="1084" y="0"/>
                </a:lnTo>
                <a:lnTo>
                  <a:pt x="1084" y="352"/>
                </a:lnTo>
                <a:lnTo>
                  <a:pt x="0" y="352"/>
                </a:lnTo>
                <a:close/>
              </a:path>
            </a:pathLst>
          </a:cu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04920" y="5896080"/>
            <a:ext cx="686160" cy="408240"/>
          </a:xfrm>
          <a:custGeom>
            <a:avLst/>
            <a:gdLst/>
            <a:ahLst/>
            <a:rect l="0" t="0" r="r" b="b"/>
            <a:pathLst>
              <a:path w="1906" h="1134">
                <a:moveTo>
                  <a:pt x="1906" y="377"/>
                </a:moveTo>
                <a:lnTo>
                  <a:pt x="1906" y="755"/>
                </a:lnTo>
                <a:lnTo>
                  <a:pt x="571" y="755"/>
                </a:lnTo>
                <a:lnTo>
                  <a:pt x="571" y="1134"/>
                </a:lnTo>
                <a:lnTo>
                  <a:pt x="0" y="566"/>
                </a:lnTo>
                <a:lnTo>
                  <a:pt x="571" y="0"/>
                </a:lnTo>
                <a:lnTo>
                  <a:pt x="571" y="377"/>
                </a:lnTo>
                <a:lnTo>
                  <a:pt x="1906" y="377"/>
                </a:lnTo>
                <a:close/>
              </a:path>
            </a:pathLst>
          </a:cu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7080" y="5253120"/>
            <a:ext cx="663840" cy="390960"/>
          </a:xfrm>
          <a:custGeom>
            <a:avLst/>
            <a:gdLst/>
            <a:ahLst/>
            <a:rect l="0" t="0" r="r" b="b"/>
            <a:pathLst>
              <a:path w="1844" h="1086">
                <a:moveTo>
                  <a:pt x="0" y="362"/>
                </a:moveTo>
                <a:lnTo>
                  <a:pt x="0" y="723"/>
                </a:lnTo>
                <a:lnTo>
                  <a:pt x="1291" y="723"/>
                </a:lnTo>
                <a:lnTo>
                  <a:pt x="1291" y="1086"/>
                </a:lnTo>
                <a:lnTo>
                  <a:pt x="1844" y="543"/>
                </a:lnTo>
                <a:lnTo>
                  <a:pt x="1291" y="0"/>
                </a:lnTo>
                <a:lnTo>
                  <a:pt x="1291" y="362"/>
                </a:lnTo>
                <a:lnTo>
                  <a:pt x="0" y="362"/>
                </a:lnTo>
                <a:close/>
              </a:path>
            </a:pathLst>
          </a:custGeom>
          <a:gradFill rotWithShape="0">
            <a:gsLst>
              <a:gs pos="0">
                <a:srgbClr val="001b6f"/>
              </a:gs>
              <a:gs pos="100000">
                <a:srgbClr val="00279f"/>
              </a:gs>
            </a:gsLst>
            <a:lin ang="0"/>
          </a:gra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NT Raid ODBC Gateway Dem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258840" y="861840"/>
            <a:ext cx="2644920" cy="159696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176040" y="3468600"/>
            <a:ext cx="2868480" cy="16462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6502320" y="3978360"/>
            <a:ext cx="2556000" cy="1262160"/>
          </a:xfrm>
          <a:prstGeom prst="rect">
            <a:avLst/>
          </a:prstGeom>
          <a:solidFill>
            <a:srgbClr val="dadada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traid. wd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Datasource: NTRai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Username: JAllar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Template: 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:\webtemp\pages\queries\bugs.ht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Statement: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SELECT * FRO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bug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WHERE 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Assign = '%Assign%'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ORDER by %table%.Priority, %table%.Severit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2833560" y="5081760"/>
            <a:ext cx="3514680" cy="1474920"/>
          </a:xfrm>
          <a:prstGeom prst="rect">
            <a:avLst/>
          </a:prstGeom>
          <a:solidFill>
            <a:srgbClr val="dadada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bugs.htx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title&gt;NT Raid bugs assigned to 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Assign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title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body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H2&gt;NT Raid bugs assigned to 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Assign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:&lt;/H2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h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BeginDetail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b&gt;&lt;A HREF=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"/scripts/httpodbc.dll/queries/bugdet.wdg?BugNum=&lt;%BugNum%&gt;  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"&gt;Bug #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BugNum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A&gt;&lt;/b&gt;  Priority: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Priority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 Severity: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Severity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Title%&gt;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b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&lt;%EndDetail%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h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body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398600" y="1476360"/>
            <a:ext cx="2830680" cy="1581120"/>
          </a:xfrm>
          <a:prstGeom prst="rect">
            <a:avLst/>
          </a:prstGeom>
          <a:solidFill>
            <a:srgbClr val="dadada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traid.ht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html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title&gt;Gibraltar Web/SQL Demo&lt;/title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body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h1&gt;NTRaid Database Query&lt;/h1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hr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form METHOD="POST" ACTION=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"/scripts/httpodbc.dll/queries/ntraid.wdg"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E-Mail Name: &lt;input text name=</a:t>
            </a:r>
            <a:r>
              <a:rPr b="1" i="1" lang="en-US" sz="7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"Assign"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size=36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P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input type="submit" value="Do Query"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body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  <a:ea typeface="Arial"/>
              </a:rPr>
              <a:t>&lt;/html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245120" y="1049400"/>
            <a:ext cx="256068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. Standard HTML form specifies query file (.wdg) and gateway (HTTPODBC.DLL), variable </a:t>
            </a:r>
            <a:r>
              <a:rPr b="1" i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ssign</a:t>
            </a:r>
            <a:r>
              <a:rPr b="0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asted to the end of  the URL</a:t>
            </a:r>
            <a:r>
              <a:rPr b="0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42160" y="2003400"/>
            <a:ext cx="191916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2. Query received by HTTP server, </a:t>
            </a:r>
            <a:r>
              <a:rPr b="1" i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ssign </a:t>
            </a: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assed via  environment to HTTPODBC.D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964200" y="3252960"/>
            <a:ext cx="168444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3. HTTPODBC.DLL issues statment from ntraid.wdg to specified datasour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7286760" y="5715000"/>
            <a:ext cx="168444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4. Results from query merged with </a:t>
            </a:r>
            <a:r>
              <a:rPr b="1" i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ugs.htx</a:t>
            </a: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 template to generate HTML “report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755640" y="5802480"/>
            <a:ext cx="1600200" cy="5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5. HTML passed back to Web client from HTTP 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Weekly Internet Magazin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990720" y="1600200"/>
            <a:ext cx="7162920" cy="470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very begins 6/1 using Gibraltar pre-beta software on internet.microsoft.com.</a:t>
            </a:r>
            <a:r>
              <a:rPr b="1" i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Customers,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ev, Test, UE, PSS, all interact on the same compu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mediate feedback on concept emphasis, documentation style, etc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154320" y="955800"/>
            <a:ext cx="3282840" cy="42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ultimate dogfood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Documen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47600" y="1066680"/>
            <a:ext cx="7162920" cy="492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mary format is HTML using browser on local files or internet.microsoft.c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ginner’s Guide to Publis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or’s Gui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curity Primer and Handb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d Installation and Orientation Guide &lt; 100 pg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Help for UI (UI only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Supplemental Document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143000" y="1104840"/>
            <a:ext cx="716292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bset of Gibraltar HTML databa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info in book is on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S-Press or Doc SK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ing Windows NT Internet Server (1000 pages, includes security inf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NT on the Internet for Beginners (350 page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‘97 Release Feat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808200" y="1542960"/>
            <a:ext cx="7467480" cy="46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ion with Cairo distributed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S, BackOffice Admin (increased managabil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eral OLE/DB Gate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S and Catalog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routing and simple packet filt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Internet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security (S-HTTP, SSL or bot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S query standard (Z39.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emerging standards as appropri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541920" y="719280"/>
            <a:ext cx="209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Under conside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Team Lead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1828800"/>
            <a:ext cx="762012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: DavidTr, ThomasP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: Pet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 Mgt: Doug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 Mgt: Kerry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Ed: Jeff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S: Greg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152360" y="1357200"/>
            <a:ext cx="7162920" cy="43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ag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 Catapult Policy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agnostic Wiz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logging for billing applicat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Mon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Microsoft inte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B Scripting/OLE automation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ice integration (publishing, author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pult APIs v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764400" y="770040"/>
            <a:ext cx="209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Under conside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2035080" y="130320"/>
            <a:ext cx="674064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‘97 Release Feat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‘97 Release Feat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04760" y="1438200"/>
            <a:ext cx="901692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sy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 O’hare client to support Microsoft standards on the Internet (OLE, Office formats, DCOM, STT/eCommerce, .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 BackOffice inte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 SQL and Exchange integration to the next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ice/DAD inte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support for Web query/report building, better InternetAssistant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Cairo scripting to drive Office solutions from  server (e.g., complex Excel model or pivo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541920" y="719280"/>
            <a:ext cx="209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Under conside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Mi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39720" y="2930400"/>
            <a:ext cx="759924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Internet Server is a high-performance publishing and access server that provides a window for getting information to and from the Internet for organizations of all siz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1.0 Release Featur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01520" y="1238400"/>
            <a:ext cx="873756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  <a:spcAft>
                <a:spcPts val="720"/>
              </a:spcAft>
            </a:pPr>
            <a:r>
              <a:rPr b="1" i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sign Points: Performance, manageability, exten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Publis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, Gopher, We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SQL (ODBC) integration with We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application gate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, Gopher, Web access from the desk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efits: Security, Caching, Transport Independence, Policy control (per-us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dministration of all ser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onitor, SNMP and logging (SQL, filesystem or EventLo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browser bund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fW, NT, Win95 support (based on Spyglass source bas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Omitted By Desig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19040" y="1265400"/>
            <a:ext cx="8305920" cy="447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lone Internet Mail/New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TP/POP3 and News included in  Ex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 client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Assistant team investigating 3rd party op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 Index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tecture does permit 3rd parties to add-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et filtering (e.g., traditional IP “firewall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Document Security (SSL, S-HTT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mmerce support (ST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net application gateway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Query/Report authoring to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Marketing - Compet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55680" y="1009800"/>
            <a:ext cx="8534520" cy="50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itional competi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tus:  InterNotes News, InterNotes Publis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cle:  Oracl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BM: DB2WWW, AIX Gatew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vell: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moured to have publishing and application gateway under development, has licensed NetScape as a stop-gap solution until Fe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publis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Scape:  NetSite Server, NetSite Commerce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d Party NT-based Web Products: O’Reilly, Process, Amerite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-in-one Internet server pack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:  Netra Internet Server (HW &amp; S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O:  SCO Global (SW onl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BN:  Internet Server (HW &amp; S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Marke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17600" y="939960"/>
            <a:ext cx="8224920" cy="526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issues: product/component nam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- BSD Tier 1 langu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7156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lish, German, French, Japanese (servers Unicode, admin tools DBCS for Win95 compatibilit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- Still under investigation, at minimum will follow server langu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tion (preliminar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Internet Server is a high performance publishing and access server that provides a window for getting information to and from the Internet for organizations of all sizes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42840" y="1122480"/>
            <a:ext cx="716292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rent thinking - not appro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995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30-50 per catapult client a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lient access fee for FTP, Gopher, WWW internal or external ac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 (channe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 BSD distrib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E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ted - DEC, NEC, Intel, Gateway, Tand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8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briefing 6/1/9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r relationships (AT&amp;T, MCI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o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itiative 1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Demonstrate NT Server as 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he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et plat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8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itiative 2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Gibraltar (Internet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Marke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. Allard</dc:creator>
  <dc:description/>
  <dc:language>en-US</dc:language>
  <cp:lastModifiedBy>bill gates</cp:lastModifiedBy>
  <cp:revision>0</cp:revision>
  <dc:subject/>
  <dc:title>BSD Internet Review 4/25</dc:title>
</cp:coreProperties>
</file>