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6f65"/>
                </a:gs>
                <a:gs pos="50000">
                  <a:srgbClr val="00dfca"/>
                </a:gs>
                <a:gs pos="100000">
                  <a:srgbClr val="006f65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90360" y="6485040"/>
            <a:ext cx="16462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D555A00D-0AB3-411F-95AB-AE90B88B2B21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2286000"/>
            <a:ext cx="7772400" cy="228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ecure internet Communications using Sock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urali R. Krishn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024360" y="5029200"/>
            <a:ext cx="3097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icrosoft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Proposed by Net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socket options for authentication and encryption relate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can use getsockopt() and setsockopt() for querying and setting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Winsock 2.0 standards committee permit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and Winsock 2.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; applications need to use only one set of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ency on RSA encryption and authentication (hard coded op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ow to obtain authentication -- left to user level hook (not specified in standar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ies interface for security support provi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argetted at Distributed systems and RPC runtime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pecify its relation to sock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ssa &amp; C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ssa: Windows Secure Sockets API -- same as SSL interface and uses ssl imple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API: Crypto API -- ?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mple interface supporting security and transport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Scalable. Extensions to support transports and security schemes should be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nteroperability of the different schemes adopted (unless it is open scheme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hat should new interface provide? (con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thentication and Encrypted data should be decipherable independent of platform u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 communicating with multiple peers with different schemes for eac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 easy layering of user level protocols (http, ftp, ...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opt SSL as-is-it-now 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ay royalty to Netscape happ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)    [DevTime = 4 weeks. Maintenance = ?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, but use authentication and encryption packages from 3rd party ( trustable?)   [DevTime = 3 months. Maintenance = ?]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09480" y="1981080"/>
            <a:ext cx="7848720" cy="461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mplement our own SSL compliant DLL (or maybe like Wssa), as well as implement authentication and encryption packages (in kernel mode possibly, speed ==$$)  [ DevTime = 6 months. Maybe long for Winsock 2.0 based impl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pecify a new interface separately for security, evangelize and implement it; Couple this with Winsock. [ DevTime = 6-12 months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c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474747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38360" y="2144880"/>
            <a:ext cx="6438960" cy="372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ARC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wo pronged approach - separate API set for security (extensions of SSPI possibly) and retain/enhance Winsock for raw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e the API set open to enable scalability and inter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s will run on SARC API (esp. htt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Goals for this t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xisting communication interfaces (Winsock, SSL, SSPI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roposed 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cu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Discus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strategy? and what is corporate-wide strateg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at is our long term and short term solu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It is time to talk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Current 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/TCP is used for internet commun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pplication protocol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, ftp, gopher need to be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modifications of application protoc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e interoperable, secure and sca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Winso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rived from Berkeley 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Flexible and simple API virtualizing trans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options for any authentication or encyption of transported da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: Secure Sockets Layer</a:t>
            </a: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666880" y="4495680"/>
            <a:ext cx="32004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200400" y="4724280"/>
            <a:ext cx="19051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38280" y="2362320"/>
            <a:ext cx="4800600" cy="83808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124080" y="2514600"/>
            <a:ext cx="36576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htt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2004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32004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4343400"/>
            <a:ext cx="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66680" y="2971800"/>
            <a:ext cx="1219320" cy="2209680"/>
          </a:xfrm>
          <a:prstGeom prst="ellipse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219320" y="4267080"/>
            <a:ext cx="914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3809880"/>
            <a:ext cx="1371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cur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762120" y="160020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3581280"/>
            <a:ext cx="1523880" cy="762120"/>
          </a:xfrm>
          <a:prstGeom prst="rect">
            <a:avLst/>
          </a:prstGeom>
          <a:solidFill>
            <a:srgbClr val="dc0081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971800" y="3733920"/>
            <a:ext cx="99072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133720" y="3733920"/>
            <a:ext cx="6094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SL defines a separate set of functions for handling I/O (masks socket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t all socket functions are replic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upports only TC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3rd party (RSA, PKCS) software for authentication and encryp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Pr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its on top of sockets, providing socket like interf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s public key encryption offering secur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dfca"/>
                </a:solidFill>
                <a:latin typeface="Arial"/>
                <a:ea typeface="Arial"/>
              </a:rPr>
              <a:t>+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lows unencrypted and unauthenticated communic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3rd party software for encryption and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support for adding/modifying authentication and encryption sc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only runs over T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pends on centralized certificate issuer (currently Netscape) for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726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dfca"/>
                </a:solidFill>
                <a:latin typeface="Book Antiqua"/>
                <a:ea typeface="Book Antiqua"/>
              </a:rPr>
              <a:t>SSL cons :(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dc0081"/>
                </a:solidFill>
                <a:latin typeface="Arial"/>
                <a:ea typeface="Arial"/>
              </a:rPr>
              <a:t>--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oes not support multiple client/server connections within same process (relevant for catapult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urali R. Krishnan</dc:creator>
  <dc:description>This presentation was prepared for talk on Wednesday, 14 June, 1995 to discuss about secure communication strategy for our internet related products.</dc:description>
  <dc:language>en-US</dc:language>
  <cp:lastModifiedBy>Murali R. Krishnan</cp:lastModifiedBy>
  <cp:revision>0</cp:revision>
  <dc:subject>Secure Communications</dc:subject>
  <dc:title>Secure And Reliable Communication using Sockets</dc:title>
</cp:coreProperties>
</file>