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839325" cy="7396163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8552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479280" y="173052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176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8552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479280" y="3971160"/>
            <a:ext cx="285084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1760" y="294840"/>
            <a:ext cx="8854560" cy="572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28840" y="397116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176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28840" y="1730520"/>
            <a:ext cx="432072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1760" y="3971160"/>
            <a:ext cx="8854560" cy="204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6759720" y="6665760"/>
            <a:ext cx="269892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icrosoft Company Conf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19000" y="6667560"/>
            <a:ext cx="19044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A3AEBBF4-DB8A-4D42-B483-BAD95A34536B}" type="datetime">
              <a:rPr b="1" lang="en-US" sz="12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1760" y="294840"/>
            <a:ext cx="8854560" cy="123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1760" y="1730520"/>
            <a:ext cx="8854560" cy="42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123920" y="550800"/>
            <a:ext cx="104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181160" y="1943280"/>
            <a:ext cx="8077320" cy="3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28880" y="1638360"/>
            <a:ext cx="79246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Win32 presents a DOS like high level filesystem API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GetFile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Win32 APIs are in turn based on NT I/O system AP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928800"/>
                <a:tab algn="l" pos="1386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571680" y="1104840"/>
            <a:ext cx="8610480" cy="554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Win32 API will call one or more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Read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DeleteFile API call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SetInformationFile (to set "FileDisposition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Win32 OpenFile API calls several APIs, includi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Open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QueryInformationFile (to query "FileBasicInformation"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l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876240" y="11048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nterface between the NT I/O system and NT drivers and file systems is the IoCallDriver API.  The IoCallDriver API takes an IoRequestPacket (IRP) as one of its paramet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IRP contains all the information to implement a particular NT I/O system AP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re is no difference between an NT file system and an NT device driver to the NT I/O system.  All drivers and file systems share a common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major NT I/O system API maps onto a single IRP, however some related APIs are mapped to common IRP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ReadFile maps to IRP_MJ_RE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CreateFile and NtOpenFile both map to IRP_MJ_CRE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LockFile and NtUnlockFile both map to IRP_MJ_LOCK_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674800" y="550800"/>
            <a:ext cx="4632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/Win 32 File system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3960" y="1181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 contains one or more Irp Stack Locations (IrpSp'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drivers or file systems can use other stack locations in the IRP to pass requests to lower level driv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Each IrpSp contains information about the particular NT API being proces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 contains the ByteOffset, Length, and "Key" for the read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l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contains the DesiredAccess, ShareAccess, and Initial allocation for the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47640" y="1924200"/>
            <a:ext cx="8686800" cy="354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659040" y="550800"/>
            <a:ext cx="26640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mportant IRP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23960" y="1990800"/>
            <a:ext cx="8534520" cy="372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38862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se are the most important NT I/O system IRP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REATE - Called whenever a file object is cre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READ/IRP_MJ_WRITE - Called to Read or Write data to a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EANUP - Called when the last handle open on a file object is clo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  <a:tabLst>
                <a:tab algn="l" pos="2970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IRP_MJ_CLOSE - Called when the last reference to a file object is removed.  </a:t>
            </a:r>
            <a:r>
              <a:rPr b="1" i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ote that this is NOT necessarily the same time that the user closes the file.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476520" y="396720"/>
            <a:ext cx="301932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Object Na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7640" y="1236600"/>
            <a:ext cx="8686800" cy="49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ll NT objects lie in the NT name sp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name space is hierarchical, and all NT devices begin at the special nod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n Nt network file system appears to be just another NT device, typically NT network file systems are called something lik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Remote files are presented to the file system relative to the base of the file system device name.  Thus the application would op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Device\NetworkRedirector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file system would see an IRP_MJ_CREATE IRP containing a file object with the na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374840" indent="457200">
              <a:lnSpc>
                <a:spcPct val="100000"/>
              </a:lnSpc>
              <a:spcAft>
                <a:spcPts val="601"/>
              </a:spcAf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\RemoteResource\File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022560" y="549360"/>
            <a:ext cx="3929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47640" y="125748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Drive mapping in Win32 is performed via NT's Symbolic Link capabi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ocal drives are simply symbolic links to other locations in the NT name hierarch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establishes drive mappings for the default NT devic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Floppy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C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HardDisk0\Partition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LPT1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Parallel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o map a local Win32 drive to a network drive, all a network providers WNetAddConnection API has to do is to use the Native NT API's to create a Symbolic Link that maps the specified local drive to a point inside the network file syst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15840" indent="457200"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Q: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\Device\NetworkRedirector\Remote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47640" y="1495440"/>
            <a:ext cx="8686800" cy="467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922560" y="6665760"/>
            <a:ext cx="2138400" cy="2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81d58"/>
                </a:solidFill>
                <a:latin typeface="NewCenturySchlbk"/>
                <a:ea typeface="NewCenturySchlbk"/>
              </a:rPr>
              <a:t>Writing an NT Redire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981600" y="549360"/>
            <a:ext cx="2009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NT Secu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409760" y="1028880"/>
            <a:ext cx="7696080" cy="3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81160" y="1789200"/>
            <a:ext cx="8458200" cy="381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Security is imbedded in the NT kern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NT security model allows for replaceable "Authentication Packages" that are used to provide domain wid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Authentication packages run in USER mo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Mechanisms are provided for network file systems  components to call authentication packages to determine user credentials or security challenge/response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NewCenturySchlbk"/>
                <a:ea typeface="NewCenturySchlbk"/>
              </a:rPr>
              <a:t>The default NT authentication package (MSV1_0) implements Lan Manager style challenge/response authentic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